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7.wmf" ContentType="image/x-wmf"/>
  <Override PartName="/ppt/media/image56.png" ContentType="image/png"/>
  <Override PartName="/ppt/media/image16.wmf" ContentType="image/x-wmf"/>
  <Override PartName="/ppt/media/image55.png" ContentType="image/png"/>
  <Override PartName="/ppt/media/image15.wmf" ContentType="image/x-wmf"/>
  <Override PartName="/ppt/media/image54.png" ContentType="image/png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36.wmf" ContentType="image/x-wmf"/>
  <Override PartName="/ppt/media/image38.png" ContentType="image/png"/>
  <Override PartName="/ppt/media/image39.png" ContentType="image/png"/>
  <Override PartName="/ppt/media/image42.jpeg" ContentType="image/jpeg"/>
  <Override PartName="/ppt/media/image49.png" ContentType="image/png"/>
  <Override PartName="/ppt/media/image41.png" ContentType="image/png"/>
  <Override PartName="/ppt/media/image9.wmf" ContentType="image/x-wmf"/>
  <Override PartName="/ppt/media/image43.wmf" ContentType="image/x-wmf"/>
  <Override PartName="/ppt/media/image58.png" ContentType="image/png"/>
  <Override PartName="/ppt/media/image44.wmf" ContentType="image/x-wmf"/>
  <Override PartName="/ppt/media/image45.png" ContentType="image/png"/>
  <Override PartName="/ppt/media/image30.wmf" ContentType="image/x-wmf"/>
  <Override PartName="/ppt/media/image35.png" ContentType="image/png"/>
  <Override PartName="/ppt/media/image47.png" ContentType="image/png"/>
  <Override PartName="/ppt/media/image32.wmf" ContentType="image/x-wmf"/>
  <Override PartName="/ppt/media/image48.png" ContentType="image/png"/>
  <Override PartName="/ppt/media/image8.wmf" ContentType="image/x-wmf"/>
  <Override PartName="/ppt/media/image40.jpeg" ContentType="image/jpeg"/>
  <Override PartName="/ppt/media/image34.png" ContentType="image/png"/>
  <Override PartName="/ppt/media/image46.png" ContentType="image/png"/>
  <Override PartName="/ppt/media/image31.wmf" ContentType="image/x-wmf"/>
  <Override PartName="/ppt/media/image33.png" ContentType="image/png"/>
  <Override PartName="/ppt/media/image52.png" ContentType="image/png"/>
  <Override PartName="/ppt/media/image13.wmf" ContentType="image/x-wmf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9488-AD72-49AE-8F1C-D7E29C0F63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3 Marcador de número de diapositiva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DFD-F057-4960-9490-F54CD1381B92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3 Marcador de número de diapositiva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F33-E1CD-43B2-9CA8-63B7D89B96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3 Marcador de número de diapositiva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A5F-D945-4835-AE68-AC44CC13A5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2F2-F88B-4242-B1CC-C3AD26EA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1CD-E839-48AC-8850-23C85CE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F8D-B9A0-4747-A998-A058F963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871-D55B-4F4B-AD9E-A07719BE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9F3-3395-4692-A64B-558E1389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CA6-B21B-43A2-9111-9A08ED9F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895-3651-434F-81A0-0A43FCF4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305-655B-45AB-A120-8391F4F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FA7-1761-4D79-B17E-8ECDD809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C01-84B7-46B9-858E-CAEA617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1C5-1254-40AA-8FCE-7BE2846F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DBB-3FE4-406D-8D0A-2700924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8AE2-981B-41D8-9463-5072C64E14D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Victor Hugo Céspedes Gómez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1A8-FE47-487D-9AE6-B82A6CC58E2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.png"/><Relationship Id="rId3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dioma_griego" TargetMode="External"/><Relationship Id="rId2" Type="http://schemas.openxmlformats.org/officeDocument/2006/relationships/hyperlink" Target="http://es.wikipedia.org/wiki/Teor&#237;a_literaria" TargetMode="External"/><Relationship Id="rId3" Type="http://schemas.openxmlformats.org/officeDocument/2006/relationships/hyperlink" Target="http://es.wikipedia.org/wiki/Figura_ret&#243;rica" TargetMode="External"/><Relationship Id="rId4" Type="http://schemas.openxmlformats.org/officeDocument/2006/relationships/hyperlink" Target="http://es.wikipedia.org/wiki/Ling&#252;&#237;stica" TargetMode="External"/><Relationship Id="rId5" Type="http://schemas.openxmlformats.org/officeDocument/2006/relationships/hyperlink" Target="http://es.wikipedia.org/wiki/Cambio_sem&#225;ntico" TargetMode="External"/><Relationship Id="rId6" Type="http://schemas.openxmlformats.org/officeDocument/2006/relationships/hyperlink" Target="http://es.wikipedia.org/wiki/Psicolog&#237;a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6000" spc="-1" strike="noStrike">
                <a:solidFill>
                  <a:srgbClr val="00b050"/>
                </a:solidFill>
                <a:latin typeface="Monotype Corsiva"/>
              </a:rPr>
              <a:t>Capítulo 2.</a:t>
            </a:r>
            <a:br>
              <a:rPr sz="6000"/>
            </a:br>
            <a:r>
              <a:rPr b="1" lang="es-ES" sz="6000" spc="-1" strike="noStrike">
                <a:solidFill>
                  <a:srgbClr val="00b050"/>
                </a:solidFill>
                <a:latin typeface="Monotype Corsiva"/>
              </a:rPr>
              <a:t> Identificación de potencialidades y limitacion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Identificación de potencialidades y limit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emprender un diagnóstico, el punto de llegada siempre es el mismo: conocer las principales limitaciones y potencialidades del tema estudiado; sin embargo, los caminos para llegar allí no siempre son los mismos, aunque hay caminos más transitados que otr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bien uno de los caminos más transitados es Análisis DOFA; en este capítulo, plantearemos y recorreremos un camino alterno: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de involucr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2 Marcador de contenido"/>
          <p:cNvSpPr/>
          <p:nvPr/>
        </p:nvSpPr>
        <p:spPr>
          <a:xfrm>
            <a:off x="1000080" y="85716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2 Marcador de contenido"/>
          <p:cNvSpPr/>
          <p:nvPr/>
        </p:nvSpPr>
        <p:spPr>
          <a:xfrm>
            <a:off x="1314360" y="135720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 Título"/>
          <p:cNvSpPr/>
          <p:nvPr/>
        </p:nvSpPr>
        <p:spPr>
          <a:xfrm>
            <a:off x="1000080" y="0"/>
            <a:ext cx="761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Para nuestro ejemplo podría ser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9 Rectángulo"/>
          <p:cNvSpPr/>
          <p:nvPr/>
        </p:nvSpPr>
        <p:spPr>
          <a:xfrm>
            <a:off x="1000080" y="1500120"/>
            <a:ext cx="742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Monotype Corsiva"/>
              </a:rPr>
              <a:t>En una oficina grande e iluminada trabajan unas 10 personas, huele a café recién hecho, los empleados ríen, de algún lugar sale una música suave, en todos los rincones pueden verse objetos artísticos, todo tiene color y estilo, delante de la ventana hay un árbol, la vista se extiende sobre la ciudad y un río próximo. La gráfica en la pared indica un buen nivel de pedidos, pequeñas agujas de colores sobre un planisferio indican los lugares donde desarrollamos nuestras actividades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3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87156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Formulación de la misión del PT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4000" spc="-1" strike="noStrike">
                <a:solidFill>
                  <a:srgbClr val="000000"/>
                </a:solidFill>
                <a:latin typeface="Monotype Corsiva"/>
                <a:ea typeface="Gautami"/>
              </a:rPr>
              <a:t>Un plan no se define por su nombre o su acto de aprobación. Se define por su misión. Sólo una definición clara de la misión y del propósito, hace posible tener objetivos claros y realistas”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Monotype Corsiva"/>
                <a:ea typeface="Gautam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4 CuadroTexto"/>
          <p:cNvSpPr/>
          <p:nvPr/>
        </p:nvSpPr>
        <p:spPr>
          <a:xfrm>
            <a:off x="3232800" y="5429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Peter Dr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577000" cy="6072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Taller de Aplicación N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50 CuadroTexto"/>
          <p:cNvSpPr/>
          <p:nvPr/>
        </p:nvSpPr>
        <p:spPr>
          <a:xfrm>
            <a:off x="2165760" y="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Estructura del taller N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3 Rectángulo"/>
          <p:cNvGrpSpPr/>
          <p:nvPr/>
        </p:nvGrpSpPr>
        <p:grpSpPr>
          <a:xfrm>
            <a:off x="3121200" y="890640"/>
            <a:ext cx="2809800" cy="444600"/>
            <a:chOff x="3121200" y="890640"/>
            <a:chExt cx="2809800" cy="444600"/>
          </a:xfrm>
        </p:grpSpPr>
        <p:pic>
          <p:nvPicPr>
            <p:cNvPr id="447" name="3 Rectángulo" descr=""/>
            <p:cNvPicPr/>
            <p:nvPr/>
          </p:nvPicPr>
          <p:blipFill>
            <a:blip r:embed="rId1"/>
            <a:stretch/>
          </p:blipFill>
          <p:spPr>
            <a:xfrm>
              <a:off x="3121200" y="890640"/>
              <a:ext cx="28098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184560" y="928800"/>
              <a:ext cx="26938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1. ANÁLISIS DE INVOLUCRADOS 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4 Rectángulo"/>
          <p:cNvGrpSpPr/>
          <p:nvPr/>
        </p:nvGrpSpPr>
        <p:grpSpPr>
          <a:xfrm>
            <a:off x="3121200" y="1444680"/>
            <a:ext cx="2809800" cy="439560"/>
            <a:chOff x="3121200" y="1444680"/>
            <a:chExt cx="2809800" cy="439560"/>
          </a:xfrm>
        </p:grpSpPr>
        <p:pic>
          <p:nvPicPr>
            <p:cNvPr id="450" name="4 Rectángulo" descr=""/>
            <p:cNvPicPr/>
            <p:nvPr/>
          </p:nvPicPr>
          <p:blipFill>
            <a:blip r:embed="rId2"/>
            <a:stretch/>
          </p:blipFill>
          <p:spPr>
            <a:xfrm>
              <a:off x="3121200" y="1444680"/>
              <a:ext cx="28098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184560" y="1481040"/>
              <a:ext cx="2693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2. PRIOR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5 Rectángulo"/>
          <p:cNvGrpSpPr/>
          <p:nvPr/>
        </p:nvGrpSpPr>
        <p:grpSpPr>
          <a:xfrm>
            <a:off x="3151080" y="2036880"/>
            <a:ext cx="2811600" cy="438120"/>
            <a:chOff x="3151080" y="2036880"/>
            <a:chExt cx="2811600" cy="438120"/>
          </a:xfrm>
        </p:grpSpPr>
        <p:pic>
          <p:nvPicPr>
            <p:cNvPr id="453" name="5 Rectángulo" descr=""/>
            <p:cNvPicPr/>
            <p:nvPr/>
          </p:nvPicPr>
          <p:blipFill>
            <a:blip r:embed="rId3"/>
            <a:stretch/>
          </p:blipFill>
          <p:spPr>
            <a:xfrm>
              <a:off x="3151080" y="2036880"/>
              <a:ext cx="28116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214800" y="2071800"/>
              <a:ext cx="26938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2.1 PONDE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7 Rectángulo"/>
          <p:cNvGrpSpPr/>
          <p:nvPr/>
        </p:nvGrpSpPr>
        <p:grpSpPr>
          <a:xfrm>
            <a:off x="3181320" y="2712960"/>
            <a:ext cx="2811600" cy="438120"/>
            <a:chOff x="3181320" y="2712960"/>
            <a:chExt cx="2811600" cy="438120"/>
          </a:xfrm>
        </p:grpSpPr>
        <p:pic>
          <p:nvPicPr>
            <p:cNvPr id="456" name="7 Rectángulo" descr=""/>
            <p:cNvPicPr/>
            <p:nvPr/>
          </p:nvPicPr>
          <p:blipFill>
            <a:blip r:embed="rId4"/>
            <a:stretch/>
          </p:blipFill>
          <p:spPr>
            <a:xfrm>
              <a:off x="3181320" y="2712960"/>
              <a:ext cx="28116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244680" y="2749680"/>
              <a:ext cx="26942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3. ANÁLISIS PROBLEMA PRIORIZ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8 Rectángulo"/>
          <p:cNvGrpSpPr/>
          <p:nvPr/>
        </p:nvGrpSpPr>
        <p:grpSpPr>
          <a:xfrm>
            <a:off x="1652760" y="3322800"/>
            <a:ext cx="2809800" cy="438120"/>
            <a:chOff x="1652760" y="3322800"/>
            <a:chExt cx="2809800" cy="438120"/>
          </a:xfrm>
        </p:grpSpPr>
        <p:pic>
          <p:nvPicPr>
            <p:cNvPr id="459" name="8 Rectángulo" descr=""/>
            <p:cNvPicPr/>
            <p:nvPr/>
          </p:nvPicPr>
          <p:blipFill>
            <a:blip r:embed="rId5"/>
            <a:stretch/>
          </p:blipFill>
          <p:spPr>
            <a:xfrm>
              <a:off x="1652760" y="3322800"/>
              <a:ext cx="28098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1714680" y="3357720"/>
              <a:ext cx="2693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3.1  ANÁLISIS DE CAU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9 Rectángulo"/>
          <p:cNvGrpSpPr/>
          <p:nvPr/>
        </p:nvGrpSpPr>
        <p:grpSpPr>
          <a:xfrm>
            <a:off x="4651200" y="3322800"/>
            <a:ext cx="2810160" cy="438120"/>
            <a:chOff x="4651200" y="3322800"/>
            <a:chExt cx="2810160" cy="438120"/>
          </a:xfrm>
        </p:grpSpPr>
        <p:pic>
          <p:nvPicPr>
            <p:cNvPr id="46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651200" y="3322800"/>
              <a:ext cx="28101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4714920" y="3357720"/>
              <a:ext cx="2693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3.2 ANÁLISIS DE EFE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10 Rectángulo"/>
          <p:cNvGrpSpPr/>
          <p:nvPr/>
        </p:nvGrpSpPr>
        <p:grpSpPr>
          <a:xfrm>
            <a:off x="3151080" y="3962520"/>
            <a:ext cx="2811600" cy="444240"/>
            <a:chOff x="3151080" y="3962520"/>
            <a:chExt cx="2811600" cy="444240"/>
          </a:xfrm>
        </p:grpSpPr>
        <p:pic>
          <p:nvPicPr>
            <p:cNvPr id="465" name="10 Rectángulo" descr=""/>
            <p:cNvPicPr/>
            <p:nvPr/>
          </p:nvPicPr>
          <p:blipFill>
            <a:blip r:embed="rId7"/>
            <a:stretch/>
          </p:blipFill>
          <p:spPr>
            <a:xfrm>
              <a:off x="3151080" y="3962520"/>
              <a:ext cx="28116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3214800" y="4000680"/>
              <a:ext cx="26938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4. VISIÓN DEL 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12 Rectángulo"/>
          <p:cNvGrpSpPr/>
          <p:nvPr/>
        </p:nvGrpSpPr>
        <p:grpSpPr>
          <a:xfrm>
            <a:off x="3151080" y="4462560"/>
            <a:ext cx="2811600" cy="444240"/>
            <a:chOff x="3151080" y="4462560"/>
            <a:chExt cx="2811600" cy="444240"/>
          </a:xfrm>
        </p:grpSpPr>
        <p:pic>
          <p:nvPicPr>
            <p:cNvPr id="468" name="12 Rectángulo" descr=""/>
            <p:cNvPicPr/>
            <p:nvPr/>
          </p:nvPicPr>
          <p:blipFill>
            <a:blip r:embed="rId8"/>
            <a:stretch/>
          </p:blipFill>
          <p:spPr>
            <a:xfrm>
              <a:off x="3151080" y="4462560"/>
              <a:ext cx="28116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3214800" y="4500720"/>
              <a:ext cx="26938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4.1 VISIÓN AC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13 Rectángulo"/>
          <p:cNvGrpSpPr/>
          <p:nvPr/>
        </p:nvGrpSpPr>
        <p:grpSpPr>
          <a:xfrm>
            <a:off x="1652760" y="5035680"/>
            <a:ext cx="2809800" cy="438120"/>
            <a:chOff x="1652760" y="5035680"/>
            <a:chExt cx="2809800" cy="438120"/>
          </a:xfrm>
        </p:grpSpPr>
        <p:pic>
          <p:nvPicPr>
            <p:cNvPr id="471" name="13 Rectángulo" descr=""/>
            <p:cNvPicPr/>
            <p:nvPr/>
          </p:nvPicPr>
          <p:blipFill>
            <a:blip r:embed="rId9"/>
            <a:stretch/>
          </p:blipFill>
          <p:spPr>
            <a:xfrm>
              <a:off x="1652760" y="5035680"/>
              <a:ext cx="28098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714680" y="5072040"/>
              <a:ext cx="26938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4.2 PROPUESTA METAFÓ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14 Rectángulo"/>
          <p:cNvGrpSpPr/>
          <p:nvPr/>
        </p:nvGrpSpPr>
        <p:grpSpPr>
          <a:xfrm>
            <a:off x="4651200" y="5035680"/>
            <a:ext cx="2810160" cy="438120"/>
            <a:chOff x="4651200" y="5035680"/>
            <a:chExt cx="2810160" cy="438120"/>
          </a:xfrm>
        </p:grpSpPr>
        <p:pic>
          <p:nvPicPr>
            <p:cNvPr id="474" name="14 Rectángulo" descr=""/>
            <p:cNvPicPr/>
            <p:nvPr/>
          </p:nvPicPr>
          <p:blipFill>
            <a:blip r:embed="rId10"/>
            <a:stretch/>
          </p:blipFill>
          <p:spPr>
            <a:xfrm>
              <a:off x="4651200" y="5035680"/>
              <a:ext cx="28101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714920" y="5072040"/>
              <a:ext cx="26938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4.3 PROPUESTA DE VIAJE FANTÁST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16 Rectángulo"/>
          <p:cNvGrpSpPr/>
          <p:nvPr/>
        </p:nvGrpSpPr>
        <p:grpSpPr>
          <a:xfrm>
            <a:off x="1652760" y="5821200"/>
            <a:ext cx="5759280" cy="439920"/>
            <a:chOff x="1652760" y="5821200"/>
            <a:chExt cx="5759280" cy="439920"/>
          </a:xfrm>
        </p:grpSpPr>
        <p:pic>
          <p:nvPicPr>
            <p:cNvPr id="477" name="16 Rectángulo" descr=""/>
            <p:cNvPicPr/>
            <p:nvPr/>
          </p:nvPicPr>
          <p:blipFill>
            <a:blip r:embed="rId11"/>
            <a:stretch/>
          </p:blipFill>
          <p:spPr>
            <a:xfrm>
              <a:off x="1652760" y="5821200"/>
              <a:ext cx="57592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714680" y="5857920"/>
              <a:ext cx="5643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5. ENVÍO DE TODOS LOS PRODUCTOS DEL TALLER AL CORREO: stgiptsan@yahoo.com.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17 Rectángulo"/>
          <p:cNvGrpSpPr/>
          <p:nvPr/>
        </p:nvGrpSpPr>
        <p:grpSpPr>
          <a:xfrm>
            <a:off x="1427040" y="6095880"/>
            <a:ext cx="6212160" cy="895320"/>
            <a:chOff x="1427040" y="6095880"/>
            <a:chExt cx="6212160" cy="895320"/>
          </a:xfrm>
        </p:grpSpPr>
        <p:pic>
          <p:nvPicPr>
            <p:cNvPr id="480" name="17 Rectángulo" descr=""/>
            <p:cNvPicPr/>
            <p:nvPr/>
          </p:nvPicPr>
          <p:blipFill>
            <a:blip r:embed="rId12"/>
            <a:stretch/>
          </p:blipFill>
          <p:spPr>
            <a:xfrm>
              <a:off x="1427040" y="6095880"/>
              <a:ext cx="6212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1714680" y="6357960"/>
              <a:ext cx="5643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Calibri"/>
                </a:rPr>
                <a:t>6. SOCIALIZ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2" name="19 Conector curvado"/>
          <p:cNvCxnSpPr/>
          <p:nvPr/>
        </p:nvCxnSpPr>
        <p:spPr>
          <a:xfrm rot="5400000">
            <a:off x="4420440" y="1369440"/>
            <a:ext cx="2214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3" name="29 Conector curvado"/>
          <p:cNvCxnSpPr/>
          <p:nvPr/>
        </p:nvCxnSpPr>
        <p:spPr>
          <a:xfrm rot="5400000">
            <a:off x="3688200" y="2454120"/>
            <a:ext cx="277200" cy="1531080"/>
          </a:xfrm>
          <a:prstGeom prst="curvedConnector5">
            <a:avLst>
              <a:gd name="adj1" fmla="val 49934"/>
              <a:gd name="adj2" fmla="val 50000"/>
              <a:gd name="adj3" fmla="val 4993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4" name="31 Conector curvado"/>
          <p:cNvCxnSpPr/>
          <p:nvPr/>
        </p:nvCxnSpPr>
        <p:spPr>
          <a:xfrm flipH="1" rot="16200000">
            <a:off x="5189400" y="2484000"/>
            <a:ext cx="277200" cy="1470960"/>
          </a:xfrm>
          <a:prstGeom prst="curvedConnector5">
            <a:avLst>
              <a:gd name="adj1" fmla="val 49934"/>
              <a:gd name="adj2" fmla="val 49987"/>
              <a:gd name="adj3" fmla="val 4993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5" name="35 Conector angular"/>
          <p:cNvCxnSpPr/>
          <p:nvPr/>
        </p:nvCxnSpPr>
        <p:spPr>
          <a:xfrm>
            <a:off x="5878440" y="1093320"/>
            <a:ext cx="2237760" cy="97560"/>
          </a:xfrm>
          <a:prstGeom prst="bentConnector3">
            <a:avLst>
              <a:gd name="adj1" fmla="val 49991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6" name="37 Conector angular"/>
          <p:cNvCxnSpPr/>
          <p:nvPr/>
        </p:nvCxnSpPr>
        <p:spPr>
          <a:xfrm rot="5400000">
            <a:off x="6538320" y="2631600"/>
            <a:ext cx="3018600" cy="1357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7" name="41 Conector angular"/>
          <p:cNvCxnSpPr/>
          <p:nvPr/>
        </p:nvCxnSpPr>
        <p:spPr>
          <a:xfrm rot="10800000">
            <a:off x="5928480" y="4142520"/>
            <a:ext cx="2052000" cy="67680"/>
          </a:xfrm>
          <a:prstGeom prst="bentConnector3">
            <a:avLst>
              <a:gd name="adj1" fmla="val 49991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8" name="43 Conector curvado"/>
          <p:cNvCxnSpPr/>
          <p:nvPr/>
        </p:nvCxnSpPr>
        <p:spPr>
          <a:xfrm rot="5400000">
            <a:off x="4475880" y="4416120"/>
            <a:ext cx="170640" cy="2520"/>
          </a:xfrm>
          <a:prstGeom prst="curvedConnector5">
            <a:avLst>
              <a:gd name="adj1" fmla="val 49894"/>
              <a:gd name="adj2" fmla="val 50000"/>
              <a:gd name="adj3" fmla="val 49894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89" name="45 Conector curvado"/>
          <p:cNvCxnSpPr/>
          <p:nvPr/>
        </p:nvCxnSpPr>
        <p:spPr>
          <a:xfrm rot="5400000">
            <a:off x="3691800" y="4201920"/>
            <a:ext cx="240480" cy="1501200"/>
          </a:xfrm>
          <a:prstGeom prst="curvedConnector5">
            <a:avLst>
              <a:gd name="adj1" fmla="val 49925"/>
              <a:gd name="adj2" fmla="val 49988"/>
              <a:gd name="adj3" fmla="val 49925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0" name="47 Conector curvado"/>
          <p:cNvCxnSpPr/>
          <p:nvPr/>
        </p:nvCxnSpPr>
        <p:spPr>
          <a:xfrm flipH="1" rot="16200000">
            <a:off x="5191920" y="4201920"/>
            <a:ext cx="240480" cy="150084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91" name="52 Llamada de flecha hacia abajo"/>
          <p:cNvSpPr/>
          <p:nvPr/>
        </p:nvSpPr>
        <p:spPr>
          <a:xfrm>
            <a:off x="1714680" y="5572080"/>
            <a:ext cx="5643360" cy="285840"/>
          </a:xfrm>
          <a:prstGeom prst="downArrowCallout">
            <a:avLst>
              <a:gd name="adj1" fmla="val 25047"/>
              <a:gd name="adj2" fmla="val 24953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56 Conector curvado"/>
          <p:cNvCxnSpPr/>
          <p:nvPr/>
        </p:nvCxnSpPr>
        <p:spPr>
          <a:xfrm rot="5400000">
            <a:off x="4451040" y="6273720"/>
            <a:ext cx="1702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493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494" name="33 Conector recto de flecha"/>
          <p:cNvCxnSpPr/>
          <p:nvPr/>
        </p:nvCxnSpPr>
        <p:spPr>
          <a:xfrm flipH="1">
            <a:off x="4500360" y="1857240"/>
            <a:ext cx="21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5" name="36 Conector recto de flecha"/>
          <p:cNvCxnSpPr/>
          <p:nvPr/>
        </p:nvCxnSpPr>
        <p:spPr>
          <a:xfrm flipH="1">
            <a:off x="4498200" y="242892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8" name="6 Rectángulo" descr=""/>
          <p:cNvPicPr/>
          <p:nvPr/>
        </p:nvPicPr>
        <p:blipFill>
          <a:blip r:embed="rId2"/>
          <a:stretch/>
        </p:blipFill>
        <p:spPr>
          <a:xfrm>
            <a:off x="2712960" y="2225520"/>
            <a:ext cx="3969000" cy="1187640"/>
          </a:xfrm>
          <a:prstGeom prst="rect">
            <a:avLst/>
          </a:prstGeom>
          <a:ln w="0">
            <a:noFill/>
          </a:ln>
        </p:spPr>
      </p:pic>
      <p:pic>
        <p:nvPicPr>
          <p:cNvPr id="499" name="7 Rectángulo" descr=""/>
          <p:cNvPicPr/>
          <p:nvPr/>
        </p:nvPicPr>
        <p:blipFill>
          <a:blip r:embed="rId3"/>
          <a:stretch/>
        </p:blipFill>
        <p:spPr>
          <a:xfrm>
            <a:off x="1189080" y="3608280"/>
            <a:ext cx="71071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alibri"/>
              </a:rPr>
              <a:t>Un involucrado es un grupo interno o externo con intereses y expectativas respecto a la seguridad alimentaria y nutricional de la entidad territorial analiz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alibri"/>
              </a:rPr>
              <a:t>En este sentido, corresponde a personas, instituciones o empresas, vinculadas o relacionadas de diversas formas con la seguridad alimentaria y nutri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alibri"/>
              </a:rPr>
              <a:t>Los involucrados suministran insumos, presentan necesidades, problemas o riesgos, hacen  parte de la gestión de dichos riesgos y de la solución de las necesidades y problem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alibri"/>
              </a:rPr>
              <a:t>Los involucrados intervienen en el desarrollo de algunos procesos de prevención, promoción mitigación o superación, como parte de la gestión social del riesgo de la seguridad alimentaria y nutricional, según la estructura present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Calibri"/>
              </a:rPr>
              <a:t>Igualmente los involucrados generan apoyo u oposición a los procesos y soluciones, reciben los bienes y servicios generados, y en ocasiones, padecen las afectaciones particulares, producidas por ést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hacer el análisis de involucrados, proponemos una matriz adaptada del Enfoque de Marco Lógico, que registra 11 variables y se emplea para hacer un diagnóstico territorial, a través de un análisis de las dimensiones económica, social y política institucional, de la seguridad alimentaria y nutricional; presentadas en el capítulo u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42920" y="428760"/>
            <a:ext cx="8907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cuatro últimas columnas de la matriz de análisis de involucrados, se registran los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rincipales problemas actuales o potenciale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(riesgos) que son percibidos a nivel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micr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mes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y macro, por cada uno de los grupos involucr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l respecto y antes de hacer estos registros, es importante tener en cuenta qu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Son los PROBLEMAS  y no las NECESIDADES, los que deben ser identificados en primera instancia en un diagnós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Un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NECESIDAD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es un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limitación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tual o potencial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de medio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(carencia, ausencia o debilidad), observable sobre </a:t>
            </a:r>
            <a:r>
              <a:rPr b="1" lang="es-CO" sz="2400" spc="-1" strike="noStrike" u="sng">
                <a:solidFill>
                  <a:srgbClr val="000000"/>
                </a:solidFill>
                <a:uFillTx/>
                <a:latin typeface="Calibri"/>
              </a:rPr>
              <a:t>insumo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(lo que se debe tener) o </a:t>
            </a:r>
            <a:r>
              <a:rPr b="1" lang="es-CO" sz="2400" spc="-1" strike="noStrike" u="sng">
                <a:solidFill>
                  <a:srgbClr val="000000"/>
                </a:solidFill>
                <a:uFillTx/>
                <a:latin typeface="Calibri"/>
              </a:rPr>
              <a:t>proceso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(lo que se debe hacer), de la seguridad alimentaria y nutricional, y concretamente, de cada uno de los ejes temáticos analizados en la matriz de involucr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000000"/>
                </a:solidFill>
                <a:uFillTx/>
                <a:latin typeface="Calibri"/>
              </a:rPr>
              <a:t>UN PROBLEMA, NO PUEDE SER CONSIDERADO COMO LA AUSENCIA DE SOLU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Análisis de involuc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ROBLEM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es un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limitación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tual o potencial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de logros o fine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(estado negativo o insatisfactorio, respecto a unos estándares, intereses o expectativas), observable sobre </a:t>
            </a:r>
            <a:r>
              <a:rPr b="1" lang="es-CO" sz="2400" spc="-1" strike="noStrike" u="sng">
                <a:solidFill>
                  <a:srgbClr val="000000"/>
                </a:solidFill>
                <a:uFillTx/>
                <a:latin typeface="Calibri"/>
              </a:rPr>
              <a:t>salidas de proceso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(productos, resultados, efectos o impactos), de la seguridad alimentaria y nutricional; y evidenciado de manera objetiva, a través de un indicad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ntar co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a estructura de indicadores, con su correspondiente línea base y estándares, permitirá identificar problemas de manera objetiva, a través del hallazgo cuantitativo y cualitativo de brech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Un pequeño ejemplo de apl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87156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l hacer el diagnóstico de la seguridad alimentaria y nutricional, el tratamiento de  los factores externos e internos, requiere cierto cuidado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Diagrama" descr=""/>
          <p:cNvPicPr/>
          <p:nvPr/>
        </p:nvPicPr>
        <p:blipFill>
          <a:blip r:embed="rId1"/>
          <a:stretch/>
        </p:blipFill>
        <p:spPr>
          <a:xfrm>
            <a:off x="706320" y="195120"/>
            <a:ext cx="7871040" cy="61992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3214800" y="2286000"/>
            <a:ext cx="293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Calibri"/>
              </a:rPr>
              <a:t>CICLO DE GESTIÓN  </a:t>
            </a:r>
            <a:r>
              <a:rPr b="1" lang="es-ES" sz="2000" spc="-1" strike="noStrike">
                <a:solidFill>
                  <a:srgbClr val="92d050"/>
                </a:solidFill>
                <a:latin typeface="Calibri"/>
              </a:rPr>
              <a:t>INTEGRAL </a:t>
            </a:r>
            <a:r>
              <a:rPr b="1" lang="es-ES" sz="2000" spc="-1" strike="noStrike">
                <a:solidFill>
                  <a:srgbClr val="a6a6a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alibri"/>
              </a:rPr>
              <a:t>DEL PLAN TERRIT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DE SEGURIDAD 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ALIMENTARIA Y</a:t>
            </a: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NUTRI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5445000" y="5407200"/>
            <a:ext cx="2222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c000"/>
                </a:solidFill>
                <a:latin typeface="Calibri"/>
              </a:rPr>
              <a:t>PLAN TERRITORI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70c0"/>
                </a:solidFill>
                <a:latin typeface="Calibri"/>
              </a:rPr>
              <a:t>DE SEGURIDAD ALIMENTARIA 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0000"/>
                </a:solidFill>
                <a:latin typeface="Calibri"/>
              </a:rPr>
              <a:t>NUTRICIONAL  PTS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287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Es profundamente lamentable que en América Latina hayamos perdido más de 50 años elaborando diagnósticos equivocados de la problemática rural y diciendo a los agricultores que los siguientes factores exógenos fueron o siguen siendo las </a:t>
            </a:r>
            <a:r>
              <a:rPr b="1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causas principales de sus problemas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el colonialismo y el imperialismo, las políticas de ajuste “ impuestas” por el FMI y el Banco Mundial, el neoliberalismo, la globalización y la OMC,  la falta de políticas, de garantías de comercialización, de créditos abundantes y la falta de subsidios internos y medidas de protección contra la importación de productos agrícolas, el valor del dólar y el precio de los peajes, los subsidios y protecciones que los países </a:t>
            </a:r>
            <a:r>
              <a:rPr b="1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ricos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  ofrecen a sus agricultor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Monotype Corsiva"/>
                <a:ea typeface="Gautam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858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Este planteamiento contiene algunas verdades y es muy redituable en términos elector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Sin embargo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Las causas “</a:t>
            </a:r>
            <a:r>
              <a:rPr b="1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eliminables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 de los problemas de los agricultores y las soluciones </a:t>
            </a:r>
            <a:r>
              <a:rPr b="1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factibles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 de ser llevadas  a la práctica son realmente las recién  mencionadas ? O será  que los “enemigos </a:t>
            </a:r>
            <a:r>
              <a:rPr b="1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externos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”  son una excelente  justificación y excusa para ocultar nuestra incapacidad de eliminar, nosotros mismos, nuestros “ enemigos </a:t>
            </a:r>
            <a:r>
              <a:rPr b="1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internos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  <a:ea typeface="Gautami"/>
              </a:rPr>
              <a:t>” utilizando las herramientas de la tecnología, de la administración y organización rural y del profesionalismo?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-456840" y="5857920"/>
            <a:ext cx="102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onotype Corsiva"/>
              </a:rPr>
              <a:t>Fuente:  Polan Lacky . El libro de los pobres rurales. www.polanlacki.com.br/agro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nálisis de involucrados eje disponibilida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13800" cy="650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nálisis de involucrados eje acce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nálisis de involucrados eje con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nálisis de involucrados eje aprovech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874000" cy="642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Conozca a su enemigo y conózcase usted mismo, y en 100 batallas jamás será derrota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no conoce al enemigo pero se conoce usted mismo, sus posibilidades de ganar o de perder serán idéntic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Pero si no conoce al enemigo ni a usted mismo, con toda seguridad será derrotado en cada batalla”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2650320" y="592920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Sun Tzu. El arte de la 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nálisis de involucrados eje calidad e inocu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8888400" cy="6429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nálisis de involucrados </a:t>
            </a: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dimensión político - institu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572320" cy="650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2 Priorización de limit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Ninguna empresa es capaz de hacer de to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Incluso si tiene el dinero, nunca tendrá suficientes personas bue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Debe establecer prior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Lo peor que se puede hacer es hacer un poco de to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Esto asegura que no se consiga na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Es mejor escoger una prioridad incorrecta que ninguna”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4 CuadroTexto"/>
          <p:cNvSpPr/>
          <p:nvPr/>
        </p:nvSpPr>
        <p:spPr>
          <a:xfrm>
            <a:off x="3186720" y="60008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Peter Dr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eje temático disponibilida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8786880" cy="667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eje temático acceso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643960" cy="658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eje temático con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42920" y="127080"/>
            <a:ext cx="8858160" cy="673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eje temático aprovech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572320" cy="657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eje temático calidad e inocu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14200" y="144360"/>
            <a:ext cx="8786880" cy="671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dimensión</a:t>
            </a: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 político - institu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14200" y="96840"/>
            <a:ext cx="8715600" cy="659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Matriz de VESTER  o Análisis Estru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Matriz de Véster o Análisis Estructu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uando después de un diagnóstico, </a:t>
            </a:r>
            <a:r>
              <a:rPr b="1" lang="es-CO" sz="2400" spc="-1" strike="noStrike" u="sng">
                <a:solidFill>
                  <a:srgbClr val="000000"/>
                </a:solidFill>
                <a:uFillTx/>
                <a:latin typeface="Calibri"/>
              </a:rPr>
              <a:t>se quiere priorizar de manera simultánea necesidades y problemas encontrado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; la matriz creada por el alemán Frederick Véster, puede ser una buena alternativa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4 Imagen" descr=""/>
          <p:cNvPicPr/>
          <p:nvPr/>
        </p:nvPicPr>
        <p:blipFill>
          <a:blip r:embed="rId2"/>
          <a:stretch/>
        </p:blipFill>
        <p:spPr>
          <a:xfrm>
            <a:off x="3214800" y="2786040"/>
            <a:ext cx="50544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Objetivo genera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r competencias conceptuales, técnicas, informáticas y prácticas, para la identificación de potencialidades y limitaciones en seguridad alimentaria y nutri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Matriz de Véster o Análisis Estructu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matriz de Vester y el Análisis MIC – MAC, técnica que presentaremos “posteriormente”, trabajan en dos momentos; por esta razón, si bien abordaremos en esta sección la presentación de la primera técnica, iremos presentando paralelamente algunas características de la segun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primer momento de Véster y MIC - MAC, corresponde al diligenciamiento de la matriz presentada; en tanto el segundo, corresponde a su representación gráfica o dispersión de datos de la matriz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57160" y="1214280"/>
          <a:ext cx="7572600" cy="4857840"/>
        </p:xfrm>
        <a:graphic>
          <a:graphicData uri="http://schemas.openxmlformats.org/drawingml/2006/table">
            <a:tbl>
              <a:tblPr/>
              <a:tblGrid>
                <a:gridCol w="2413080"/>
                <a:gridCol w="544680"/>
                <a:gridCol w="544320"/>
                <a:gridCol w="544680"/>
                <a:gridCol w="544320"/>
                <a:gridCol w="544680"/>
                <a:gridCol w="544320"/>
                <a:gridCol w="544680"/>
                <a:gridCol w="544320"/>
                <a:gridCol w="803520"/>
              </a:tblGrid>
              <a:tr h="642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T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Symbol" charset="2"/>
                        <a:buChar char="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 x 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67" name="2 CuadroTexto"/>
          <p:cNvSpPr/>
          <p:nvPr/>
        </p:nvSpPr>
        <p:spPr>
          <a:xfrm>
            <a:off x="1068840" y="285840"/>
            <a:ext cx="75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Matriz de Véster o Análisis 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2 CuadroTexto"/>
          <p:cNvSpPr/>
          <p:nvPr/>
        </p:nvSpPr>
        <p:spPr>
          <a:xfrm>
            <a:off x="3593160" y="6429240"/>
            <a:ext cx="32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Diseño Céspedes 2009 a partir de Frederick Vés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38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857160" y="1214280"/>
          <a:ext cx="7572600" cy="4857840"/>
        </p:xfrm>
        <a:graphic>
          <a:graphicData uri="http://schemas.openxmlformats.org/drawingml/2006/table">
            <a:tbl>
              <a:tblPr/>
              <a:tblGrid>
                <a:gridCol w="2413080"/>
                <a:gridCol w="544680"/>
                <a:gridCol w="544320"/>
                <a:gridCol w="544680"/>
                <a:gridCol w="544320"/>
                <a:gridCol w="544680"/>
                <a:gridCol w="544320"/>
                <a:gridCol w="544680"/>
                <a:gridCol w="544320"/>
                <a:gridCol w="803520"/>
              </a:tblGrid>
              <a:tr h="6429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TA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208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4204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2228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 x 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71" name="2 CuadroTexto"/>
          <p:cNvSpPr/>
          <p:nvPr/>
        </p:nvSpPr>
        <p:spPr>
          <a:xfrm>
            <a:off x="973440" y="357120"/>
            <a:ext cx="75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Matriz de Véster o Análisis 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2 CuadroTexto"/>
          <p:cNvSpPr/>
          <p:nvPr/>
        </p:nvSpPr>
        <p:spPr>
          <a:xfrm>
            <a:off x="3593160" y="6429240"/>
            <a:ext cx="32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Diseño Céspedes 2009 a partir de Frederick Vés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38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928880" y="785880"/>
          <a:ext cx="5643360" cy="5608440"/>
        </p:xfrm>
        <a:graphic>
          <a:graphicData uri="http://schemas.openxmlformats.org/drawingml/2006/table">
            <a:tbl>
              <a:tblPr/>
              <a:tblGrid>
                <a:gridCol w="469800"/>
                <a:gridCol w="471600"/>
                <a:gridCol w="469800"/>
                <a:gridCol w="469800"/>
                <a:gridCol w="470160"/>
                <a:gridCol w="471240"/>
                <a:gridCol w="470160"/>
                <a:gridCol w="469800"/>
                <a:gridCol w="469800"/>
                <a:gridCol w="471600"/>
                <a:gridCol w="469800"/>
                <a:gridCol w="469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5" name="3 Conector recto"/>
          <p:cNvSpPr/>
          <p:nvPr/>
        </p:nvSpPr>
        <p:spPr>
          <a:xfrm flipV="1">
            <a:off x="4785480" y="785880"/>
            <a:ext cx="1800" cy="5572080"/>
          </a:xfrm>
          <a:prstGeom prst="line">
            <a:avLst/>
          </a:prstGeom>
          <a:ln w="381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6 Conector recto"/>
          <p:cNvSpPr/>
          <p:nvPr/>
        </p:nvSpPr>
        <p:spPr>
          <a:xfrm>
            <a:off x="1928880" y="3429000"/>
            <a:ext cx="5643360" cy="1440"/>
          </a:xfrm>
          <a:prstGeom prst="line">
            <a:avLst/>
          </a:prstGeom>
          <a:ln w="381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 CuadroTexto"/>
          <p:cNvSpPr/>
          <p:nvPr/>
        </p:nvSpPr>
        <p:spPr>
          <a:xfrm>
            <a:off x="4293360" y="6488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CuadroTexto"/>
          <p:cNvSpPr/>
          <p:nvPr/>
        </p:nvSpPr>
        <p:spPr>
          <a:xfrm>
            <a:off x="507240" y="3214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s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7 CuadroTexto"/>
          <p:cNvSpPr/>
          <p:nvPr/>
        </p:nvSpPr>
        <p:spPr>
          <a:xfrm>
            <a:off x="7643880" y="1571760"/>
            <a:ext cx="1500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í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Problemas - Nece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8 CuadroTexto"/>
          <p:cNvSpPr/>
          <p:nvPr/>
        </p:nvSpPr>
        <p:spPr>
          <a:xfrm>
            <a:off x="7657200" y="428616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au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9 CuadroTexto"/>
          <p:cNvSpPr/>
          <p:nvPr/>
        </p:nvSpPr>
        <p:spPr>
          <a:xfrm>
            <a:off x="357120" y="435780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itaciones indi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0 CuadroTexto"/>
          <p:cNvSpPr/>
          <p:nvPr/>
        </p:nvSpPr>
        <p:spPr>
          <a:xfrm>
            <a:off x="362520" y="157176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f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2 Conector recto"/>
          <p:cNvSpPr/>
          <p:nvPr/>
        </p:nvSpPr>
        <p:spPr>
          <a:xfrm>
            <a:off x="4786200" y="4786200"/>
            <a:ext cx="2786040" cy="180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4 Conector recto"/>
          <p:cNvSpPr/>
          <p:nvPr/>
        </p:nvSpPr>
        <p:spPr>
          <a:xfrm flipH="1">
            <a:off x="6143760" y="3430440"/>
            <a:ext cx="1440" cy="292896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6 Conector recto"/>
          <p:cNvSpPr/>
          <p:nvPr/>
        </p:nvSpPr>
        <p:spPr>
          <a:xfrm flipH="1">
            <a:off x="6143760" y="785880"/>
            <a:ext cx="1440" cy="271620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8 Conector recto"/>
          <p:cNvSpPr/>
          <p:nvPr/>
        </p:nvSpPr>
        <p:spPr>
          <a:xfrm>
            <a:off x="4786200" y="2143080"/>
            <a:ext cx="2786040" cy="180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0 Conector recto"/>
          <p:cNvSpPr/>
          <p:nvPr/>
        </p:nvSpPr>
        <p:spPr>
          <a:xfrm>
            <a:off x="1928880" y="2143080"/>
            <a:ext cx="2857320" cy="180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4 Conector recto"/>
          <p:cNvSpPr/>
          <p:nvPr/>
        </p:nvSpPr>
        <p:spPr>
          <a:xfrm>
            <a:off x="1928880" y="4786200"/>
            <a:ext cx="2928960" cy="180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8 Conector recto"/>
          <p:cNvSpPr/>
          <p:nvPr/>
        </p:nvSpPr>
        <p:spPr>
          <a:xfrm flipH="1">
            <a:off x="3355560" y="785880"/>
            <a:ext cx="1800" cy="557352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9 CuadroTexto"/>
          <p:cNvSpPr/>
          <p:nvPr/>
        </p:nvSpPr>
        <p:spPr>
          <a:xfrm>
            <a:off x="2316240" y="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Representación gráf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2 CuadroTexto"/>
          <p:cNvSpPr/>
          <p:nvPr/>
        </p:nvSpPr>
        <p:spPr>
          <a:xfrm>
            <a:off x="5864760" y="6627960"/>
            <a:ext cx="32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Diseño Céspedes 2009 a partir de Frederick Vést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Matriz de Impactos Cruzados  – Multiplicación Aplicada a una Clasificación</a:t>
            </a: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MIC – MAC *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5 CuadroTexto"/>
          <p:cNvSpPr/>
          <p:nvPr/>
        </p:nvSpPr>
        <p:spPr>
          <a:xfrm>
            <a:off x="3792600" y="6000840"/>
            <a:ext cx="14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www.LIPSOR.f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lipsor"/>
          <p:cNvPicPr/>
          <p:nvPr/>
        </p:nvPicPr>
        <p:blipFill>
          <a:blip r:embed="rId1"/>
          <a:stretch/>
        </p:blipFill>
        <p:spPr>
          <a:xfrm>
            <a:off x="3571920" y="457200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Un caso de aplicación de   Matriz de VESTER  o Análisis Estructural y MIC - M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304920" y="1752480"/>
          <a:ext cx="848340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4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b050"/>
                </a:solidFill>
                <a:latin typeface="Calibri"/>
              </a:rPr>
              <a:t>Caso cosecha y pos-cosecha</a:t>
            </a:r>
            <a:br>
              <a:rPr sz="3200"/>
            </a:br>
            <a:r>
              <a:rPr b="1" lang="es-ES_tradnl" sz="3200" spc="-1" strike="noStrike">
                <a:solidFill>
                  <a:srgbClr val="00b050"/>
                </a:solidFill>
                <a:latin typeface="Calibri"/>
              </a:rPr>
              <a:t>Matriz de Véster o Análisis Estructu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2 Tabla" descr=""/>
          <p:cNvPicPr/>
          <p:nvPr/>
        </p:nvPicPr>
        <p:blipFill>
          <a:blip r:embed="rId1"/>
          <a:stretch/>
        </p:blipFill>
        <p:spPr>
          <a:xfrm>
            <a:off x="139680" y="500040"/>
            <a:ext cx="8937720" cy="6113520"/>
          </a:xfrm>
          <a:prstGeom prst="rect">
            <a:avLst/>
          </a:prstGeom>
          <a:ln w="0">
            <a:noFill/>
          </a:ln>
        </p:spPr>
      </p:pic>
      <p:sp>
        <p:nvSpPr>
          <p:cNvPr id="204" name="6 Conector recto"/>
          <p:cNvSpPr/>
          <p:nvPr/>
        </p:nvSpPr>
        <p:spPr>
          <a:xfrm flipH="1">
            <a:off x="4570560" y="714240"/>
            <a:ext cx="2880" cy="528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9 Conector recto"/>
          <p:cNvSpPr/>
          <p:nvPr/>
        </p:nvSpPr>
        <p:spPr>
          <a:xfrm>
            <a:off x="785880" y="3286080"/>
            <a:ext cx="73580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0 CuadroTexto"/>
          <p:cNvSpPr/>
          <p:nvPr/>
        </p:nvSpPr>
        <p:spPr>
          <a:xfrm>
            <a:off x="1275120" y="135720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PA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1 CuadroTexto"/>
          <p:cNvSpPr/>
          <p:nvPr/>
        </p:nvSpPr>
        <p:spPr>
          <a:xfrm>
            <a:off x="4929120" y="857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CRI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S Y CAUSAS DI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2 CuadroTexto"/>
          <p:cNvSpPr/>
          <p:nvPr/>
        </p:nvSpPr>
        <p:spPr>
          <a:xfrm>
            <a:off x="5208120" y="37148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A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3 CuadroTexto"/>
          <p:cNvSpPr/>
          <p:nvPr/>
        </p:nvSpPr>
        <p:spPr>
          <a:xfrm>
            <a:off x="1285920" y="39290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IN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213012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</a:t>
            </a: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c</a:t>
            </a:r>
            <a:r>
              <a:rPr b="1" lang="es-ES_tradnl" sz="4400" spc="-1" strike="noStrike">
                <a:solidFill>
                  <a:srgbClr val="00b050"/>
                </a:solidFill>
                <a:latin typeface="Calibri"/>
              </a:rPr>
              <a:t>aso cosecha y pos-cosecha </a:t>
            </a: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con  MIC - M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" descr="lipsor"/>
          <p:cNvPicPr/>
          <p:nvPr/>
        </p:nvPicPr>
        <p:blipFill>
          <a:blip r:embed="rId1"/>
          <a:stretch/>
        </p:blipFill>
        <p:spPr>
          <a:xfrm>
            <a:off x="3714840" y="414324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214280" y="109440"/>
            <a:ext cx="7929720" cy="6551640"/>
          </a:xfrm>
          <a:prstGeom prst="rect">
            <a:avLst/>
          </a:prstGeom>
          <a:ln w="0">
            <a:noFill/>
          </a:ln>
        </p:spPr>
      </p:pic>
      <p:sp>
        <p:nvSpPr>
          <p:cNvPr id="215" name="7 CuadroTexto"/>
          <p:cNvSpPr/>
          <p:nvPr/>
        </p:nvSpPr>
        <p:spPr>
          <a:xfrm>
            <a:off x="5490000" y="41432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PAS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8 CuadroTexto"/>
          <p:cNvSpPr/>
          <p:nvPr/>
        </p:nvSpPr>
        <p:spPr>
          <a:xfrm>
            <a:off x="1850400" y="178596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A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9 CuadroTexto"/>
          <p:cNvSpPr/>
          <p:nvPr/>
        </p:nvSpPr>
        <p:spPr>
          <a:xfrm>
            <a:off x="5643720" y="5000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CRI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S Y CAUSAS DI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CuadroTexto"/>
          <p:cNvSpPr/>
          <p:nvPr/>
        </p:nvSpPr>
        <p:spPr>
          <a:xfrm>
            <a:off x="2071800" y="357192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CIONES IN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Objetivos específico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potencialidades (fortalezas y oportunidades) y limitaciones (problemas, riesgos, necesidades y amenazas) territoriales, en seguridad alimentaria y nutricio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iorizar limitaciones encontradas en el diagnós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alizar las principales causas de limitaciones identific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ular  planes de acción inmediata por dimensión o eje diagnós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alizar los principales efectos de las limitaciones identific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Comparación Gráficos</a:t>
            </a: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 Vester – MicMac</a:t>
            </a: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caso  cosecha y pos - cose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3 Imagen" descr=""/>
          <p:cNvPicPr/>
          <p:nvPr/>
        </p:nvPicPr>
        <p:blipFill>
          <a:blip r:embed="rId1"/>
          <a:stretch/>
        </p:blipFill>
        <p:spPr>
          <a:xfrm>
            <a:off x="0" y="2357280"/>
            <a:ext cx="4714920" cy="2643480"/>
          </a:xfrm>
          <a:prstGeom prst="rect">
            <a:avLst/>
          </a:prstGeom>
          <a:ln w="0">
            <a:noFill/>
          </a:ln>
        </p:spPr>
      </p:pic>
      <p:pic>
        <p:nvPicPr>
          <p:cNvPr id="223" name="4 Imagen" descr=""/>
          <p:cNvPicPr/>
          <p:nvPr/>
        </p:nvPicPr>
        <p:blipFill>
          <a:blip r:embed="rId2"/>
          <a:stretch/>
        </p:blipFill>
        <p:spPr>
          <a:xfrm>
            <a:off x="4714920" y="4714920"/>
            <a:ext cx="4143240" cy="214308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1214280" y="214200"/>
            <a:ext cx="6286680" cy="214308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1999080" y="500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7 CuadroTexto"/>
          <p:cNvSpPr/>
          <p:nvPr/>
        </p:nvSpPr>
        <p:spPr>
          <a:xfrm>
            <a:off x="6292800" y="41432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riorización general de problemas y riesgos territoriales de seguridad alimentaria y nutricion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357120" y="0"/>
            <a:ext cx="8572680" cy="6807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3. Análisis de causas de las limitaciones encontr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723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Un pequeño ejemplo de apl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7262640" cy="637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4. Planes de Acción Inmedia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Plan de Acción Inmediata en disponibi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Objetivos específico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ar árboles de causas y efectos para las limitaciones encont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aborar planes de trabajo, para equipos técnicos territoriales que lideran la formulación, ejecución, seguimiento y evaluación, de planes, programas, subprogramas y proyectos, en seguridad alimentaria y nutricional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ular una propuesta de principios, visión y misión, del plan territorial de seguridad alimentari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8766000" cy="4294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5 Análisis de efectos de las limitaciones encontrad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072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Un pequeño ejemplo de apl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6588000" cy="651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6 Diseño de arboles de causas y efec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rbol de cau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23 Grupo"/>
          <p:cNvGrpSpPr/>
          <p:nvPr/>
        </p:nvGrpSpPr>
        <p:grpSpPr>
          <a:xfrm>
            <a:off x="1357200" y="1857240"/>
            <a:ext cx="6572520" cy="4214880"/>
            <a:chOff x="1357200" y="1857240"/>
            <a:chExt cx="6572520" cy="4214880"/>
          </a:xfrm>
        </p:grpSpPr>
        <p:grpSp>
          <p:nvGrpSpPr>
            <p:cNvPr id="258" name="1 Rectángulo"/>
            <p:cNvGrpSpPr/>
            <p:nvPr/>
          </p:nvGrpSpPr>
          <p:grpSpPr>
            <a:xfrm>
              <a:off x="3938040" y="1857240"/>
              <a:ext cx="1548360" cy="721080"/>
              <a:chOff x="3938040" y="1857240"/>
              <a:chExt cx="1548360" cy="721080"/>
            </a:xfrm>
          </p:grpSpPr>
          <p:pic>
            <p:nvPicPr>
              <p:cNvPr id="259" name="1 Rectángulo" descr=""/>
              <p:cNvPicPr/>
              <p:nvPr/>
            </p:nvPicPr>
            <p:blipFill>
              <a:blip r:embed="rId1"/>
              <a:stretch/>
            </p:blipFill>
            <p:spPr>
              <a:xfrm>
                <a:off x="3938040" y="1857240"/>
                <a:ext cx="1548360" cy="72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4000320" y="1950480"/>
                <a:ext cx="142884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Calibri"/>
                  </a:rPr>
                  <a:t>Proble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Calibri"/>
                  </a:rPr>
                  <a:t>centr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3 Rectángulo"/>
            <p:cNvSpPr/>
            <p:nvPr/>
          </p:nvSpPr>
          <p:spPr>
            <a:xfrm>
              <a:off x="1357200" y="2928600"/>
              <a:ext cx="1428840" cy="55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 directa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4 Rectángulo"/>
            <p:cNvSpPr/>
            <p:nvPr/>
          </p:nvSpPr>
          <p:spPr>
            <a:xfrm>
              <a:off x="3143160" y="2928600"/>
              <a:ext cx="1428840" cy="55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directa 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5 Rectángulo"/>
            <p:cNvSpPr/>
            <p:nvPr/>
          </p:nvSpPr>
          <p:spPr>
            <a:xfrm>
              <a:off x="4786200" y="2928600"/>
              <a:ext cx="1428840" cy="55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direct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6 Rectángulo"/>
            <p:cNvSpPr/>
            <p:nvPr/>
          </p:nvSpPr>
          <p:spPr>
            <a:xfrm>
              <a:off x="6500880" y="2928600"/>
              <a:ext cx="1428840" cy="55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directa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7 Rectángulo"/>
            <p:cNvSpPr/>
            <p:nvPr/>
          </p:nvSpPr>
          <p:spPr>
            <a:xfrm>
              <a:off x="1357200" y="362736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indirect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8 Rectángulo"/>
            <p:cNvSpPr/>
            <p:nvPr/>
          </p:nvSpPr>
          <p:spPr>
            <a:xfrm>
              <a:off x="1357200" y="425592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indirecta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9 Rectángulo"/>
            <p:cNvSpPr/>
            <p:nvPr/>
          </p:nvSpPr>
          <p:spPr>
            <a:xfrm>
              <a:off x="1357200" y="488484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indirect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10 Rectángulo"/>
            <p:cNvSpPr/>
            <p:nvPr/>
          </p:nvSpPr>
          <p:spPr>
            <a:xfrm>
              <a:off x="1357200" y="551340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ausa indirecta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11 Rectángulo"/>
            <p:cNvSpPr/>
            <p:nvPr/>
          </p:nvSpPr>
          <p:spPr>
            <a:xfrm>
              <a:off x="3143160" y="362736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12 Rectángulo"/>
            <p:cNvSpPr/>
            <p:nvPr/>
          </p:nvSpPr>
          <p:spPr>
            <a:xfrm>
              <a:off x="3143160" y="425592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13 Rectángulo"/>
            <p:cNvSpPr/>
            <p:nvPr/>
          </p:nvSpPr>
          <p:spPr>
            <a:xfrm>
              <a:off x="3143160" y="488484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14 Rectángulo"/>
            <p:cNvSpPr/>
            <p:nvPr/>
          </p:nvSpPr>
          <p:spPr>
            <a:xfrm>
              <a:off x="3143160" y="551340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15 Rectángulo"/>
            <p:cNvSpPr/>
            <p:nvPr/>
          </p:nvSpPr>
          <p:spPr>
            <a:xfrm>
              <a:off x="4786200" y="362736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16 Rectángulo"/>
            <p:cNvSpPr/>
            <p:nvPr/>
          </p:nvSpPr>
          <p:spPr>
            <a:xfrm>
              <a:off x="4786200" y="425592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17 Rectángulo"/>
            <p:cNvSpPr/>
            <p:nvPr/>
          </p:nvSpPr>
          <p:spPr>
            <a:xfrm>
              <a:off x="4786200" y="488484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18 Rectángulo"/>
            <p:cNvSpPr/>
            <p:nvPr/>
          </p:nvSpPr>
          <p:spPr>
            <a:xfrm>
              <a:off x="4786200" y="551340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19 Rectángulo"/>
            <p:cNvSpPr/>
            <p:nvPr/>
          </p:nvSpPr>
          <p:spPr>
            <a:xfrm>
              <a:off x="6500880" y="362736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20 Rectángulo"/>
            <p:cNvSpPr/>
            <p:nvPr/>
          </p:nvSpPr>
          <p:spPr>
            <a:xfrm>
              <a:off x="6500880" y="425592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21 Rectángulo"/>
            <p:cNvSpPr/>
            <p:nvPr/>
          </p:nvSpPr>
          <p:spPr>
            <a:xfrm>
              <a:off x="6500880" y="488484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22 Rectángulo"/>
            <p:cNvSpPr/>
            <p:nvPr/>
          </p:nvSpPr>
          <p:spPr>
            <a:xfrm>
              <a:off x="6500880" y="5513400"/>
              <a:ext cx="1428840" cy="5587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25 Rectángulo"/>
          <p:cNvSpPr/>
          <p:nvPr/>
        </p:nvSpPr>
        <p:spPr>
          <a:xfrm>
            <a:off x="3143160" y="357192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26 Rectángulo"/>
          <p:cNvSpPr/>
          <p:nvPr/>
        </p:nvSpPr>
        <p:spPr>
          <a:xfrm>
            <a:off x="4786200" y="357192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27 Rectángulo"/>
          <p:cNvSpPr/>
          <p:nvPr/>
        </p:nvSpPr>
        <p:spPr>
          <a:xfrm>
            <a:off x="6500880" y="357192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8 Rectángulo"/>
          <p:cNvSpPr/>
          <p:nvPr/>
        </p:nvSpPr>
        <p:spPr>
          <a:xfrm>
            <a:off x="3143160" y="421488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9 Rectángulo"/>
          <p:cNvSpPr/>
          <p:nvPr/>
        </p:nvSpPr>
        <p:spPr>
          <a:xfrm>
            <a:off x="4786200" y="421488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0 Rectángulo"/>
          <p:cNvSpPr/>
          <p:nvPr/>
        </p:nvSpPr>
        <p:spPr>
          <a:xfrm>
            <a:off x="6500880" y="421488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1 Rectángulo"/>
          <p:cNvSpPr/>
          <p:nvPr/>
        </p:nvSpPr>
        <p:spPr>
          <a:xfrm>
            <a:off x="3143160" y="485784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2 Rectángulo"/>
          <p:cNvSpPr/>
          <p:nvPr/>
        </p:nvSpPr>
        <p:spPr>
          <a:xfrm>
            <a:off x="4786200" y="485784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3 Rectángulo"/>
          <p:cNvSpPr/>
          <p:nvPr/>
        </p:nvSpPr>
        <p:spPr>
          <a:xfrm>
            <a:off x="6500880" y="485784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34 Rectángulo"/>
          <p:cNvSpPr/>
          <p:nvPr/>
        </p:nvSpPr>
        <p:spPr>
          <a:xfrm>
            <a:off x="3143160" y="550080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35 Rectángulo"/>
          <p:cNvSpPr/>
          <p:nvPr/>
        </p:nvSpPr>
        <p:spPr>
          <a:xfrm>
            <a:off x="4786200" y="550080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36 Rectángulo"/>
          <p:cNvSpPr/>
          <p:nvPr/>
        </p:nvSpPr>
        <p:spPr>
          <a:xfrm>
            <a:off x="6500880" y="550080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usa indirect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38 CuadroTexto"/>
          <p:cNvSpPr/>
          <p:nvPr/>
        </p:nvSpPr>
        <p:spPr>
          <a:xfrm rot="16200000">
            <a:off x="-958680" y="4199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QUE POR 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9 CuadroTexto"/>
          <p:cNvSpPr/>
          <p:nvPr/>
        </p:nvSpPr>
        <p:spPr>
          <a:xfrm rot="5400000">
            <a:off x="6804000" y="4199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QUE POR 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40 CuadroTexto"/>
          <p:cNvSpPr/>
          <p:nvPr/>
        </p:nvSpPr>
        <p:spPr>
          <a:xfrm>
            <a:off x="1388880" y="500040"/>
            <a:ext cx="71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Análisis de causas de un problem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42 Conector recto"/>
          <p:cNvSpPr/>
          <p:nvPr/>
        </p:nvSpPr>
        <p:spPr>
          <a:xfrm flipV="1">
            <a:off x="2071800" y="2428560"/>
            <a:ext cx="26431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45 Conector recto"/>
          <p:cNvSpPr/>
          <p:nvPr/>
        </p:nvSpPr>
        <p:spPr>
          <a:xfrm flipV="1">
            <a:off x="3857040" y="2428560"/>
            <a:ext cx="85716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47 Conector recto"/>
          <p:cNvSpPr/>
          <p:nvPr/>
        </p:nvSpPr>
        <p:spPr>
          <a:xfrm flipH="1" flipV="1">
            <a:off x="4714560" y="2428560"/>
            <a:ext cx="78588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49 Conector recto"/>
          <p:cNvSpPr/>
          <p:nvPr/>
        </p:nvSpPr>
        <p:spPr>
          <a:xfrm flipH="1" flipV="1">
            <a:off x="4714560" y="2428560"/>
            <a:ext cx="25002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50 Flecha arriba"/>
          <p:cNvSpPr/>
          <p:nvPr/>
        </p:nvSpPr>
        <p:spPr>
          <a:xfrm>
            <a:off x="928800" y="2928960"/>
            <a:ext cx="357120" cy="3143160"/>
          </a:xfrm>
          <a:prstGeom prst="upArrow">
            <a:avLst>
              <a:gd name="adj1" fmla="val 66000"/>
              <a:gd name="adj2" fmla="val 4999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51 Flecha arriba"/>
          <p:cNvSpPr/>
          <p:nvPr/>
        </p:nvSpPr>
        <p:spPr>
          <a:xfrm>
            <a:off x="8001000" y="2928960"/>
            <a:ext cx="357120" cy="3143160"/>
          </a:xfrm>
          <a:prstGeom prst="upArrow">
            <a:avLst>
              <a:gd name="adj1" fmla="val 66000"/>
              <a:gd name="adj2" fmla="val 4999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Arbol de efec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40 CuadroTexto"/>
          <p:cNvSpPr/>
          <p:nvPr/>
        </p:nvSpPr>
        <p:spPr>
          <a:xfrm>
            <a:off x="1317600" y="1429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</a:rPr>
              <a:t>Análisis de efectos de un problem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Rectángulo"/>
          <p:cNvGrpSpPr/>
          <p:nvPr/>
        </p:nvGrpSpPr>
        <p:grpSpPr>
          <a:xfrm>
            <a:off x="3913200" y="963720"/>
            <a:ext cx="1542960" cy="682560"/>
            <a:chOff x="3913200" y="963720"/>
            <a:chExt cx="1542960" cy="682560"/>
          </a:xfrm>
        </p:grpSpPr>
        <p:pic>
          <p:nvPicPr>
            <p:cNvPr id="308" name="1 Rectángulo" descr=""/>
            <p:cNvPicPr/>
            <p:nvPr/>
          </p:nvPicPr>
          <p:blipFill>
            <a:blip r:embed="rId1"/>
            <a:stretch/>
          </p:blipFill>
          <p:spPr>
            <a:xfrm>
              <a:off x="3913200" y="963720"/>
              <a:ext cx="1542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75120" y="1000080"/>
              <a:ext cx="1428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fecto f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3 Rectángulo"/>
          <p:cNvSpPr/>
          <p:nvPr/>
        </p:nvSpPr>
        <p:spPr>
          <a:xfrm>
            <a:off x="1332000" y="2000160"/>
            <a:ext cx="14288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4 Rectángulo"/>
          <p:cNvSpPr/>
          <p:nvPr/>
        </p:nvSpPr>
        <p:spPr>
          <a:xfrm>
            <a:off x="3117960" y="2000160"/>
            <a:ext cx="14284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5 Rectángulo"/>
          <p:cNvSpPr/>
          <p:nvPr/>
        </p:nvSpPr>
        <p:spPr>
          <a:xfrm>
            <a:off x="4761000" y="2000160"/>
            <a:ext cx="14288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6 Rectángulo"/>
          <p:cNvSpPr/>
          <p:nvPr/>
        </p:nvSpPr>
        <p:spPr>
          <a:xfrm>
            <a:off x="6475320" y="2000160"/>
            <a:ext cx="14288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7 Rectángulo"/>
          <p:cNvSpPr/>
          <p:nvPr/>
        </p:nvSpPr>
        <p:spPr>
          <a:xfrm>
            <a:off x="1332000" y="271476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8 Rectángulo"/>
          <p:cNvSpPr/>
          <p:nvPr/>
        </p:nvSpPr>
        <p:spPr>
          <a:xfrm>
            <a:off x="1332000" y="335772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9 Rectángulo"/>
          <p:cNvSpPr/>
          <p:nvPr/>
        </p:nvSpPr>
        <p:spPr>
          <a:xfrm>
            <a:off x="1332000" y="400068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0 Rectángulo"/>
          <p:cNvSpPr/>
          <p:nvPr/>
        </p:nvSpPr>
        <p:spPr>
          <a:xfrm>
            <a:off x="1332000" y="4643280"/>
            <a:ext cx="142884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direc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11 Rectángulo"/>
          <p:cNvSpPr/>
          <p:nvPr/>
        </p:nvSpPr>
        <p:spPr>
          <a:xfrm>
            <a:off x="3117960" y="2714760"/>
            <a:ext cx="1428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2 Rectángulo"/>
          <p:cNvSpPr/>
          <p:nvPr/>
        </p:nvSpPr>
        <p:spPr>
          <a:xfrm>
            <a:off x="3117960" y="3357720"/>
            <a:ext cx="1428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3 Rectángulo"/>
          <p:cNvSpPr/>
          <p:nvPr/>
        </p:nvSpPr>
        <p:spPr>
          <a:xfrm>
            <a:off x="3117960" y="4000680"/>
            <a:ext cx="1428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4 Rectángulo"/>
          <p:cNvSpPr/>
          <p:nvPr/>
        </p:nvSpPr>
        <p:spPr>
          <a:xfrm>
            <a:off x="3117960" y="4643280"/>
            <a:ext cx="14284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directo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Rectángulo"/>
          <p:cNvSpPr/>
          <p:nvPr/>
        </p:nvSpPr>
        <p:spPr>
          <a:xfrm>
            <a:off x="4761000" y="271476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6 Rectángulo"/>
          <p:cNvSpPr/>
          <p:nvPr/>
        </p:nvSpPr>
        <p:spPr>
          <a:xfrm>
            <a:off x="4761000" y="335772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7 Rectángulo"/>
          <p:cNvSpPr/>
          <p:nvPr/>
        </p:nvSpPr>
        <p:spPr>
          <a:xfrm>
            <a:off x="4761000" y="400068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8 Rectángulo"/>
          <p:cNvSpPr/>
          <p:nvPr/>
        </p:nvSpPr>
        <p:spPr>
          <a:xfrm>
            <a:off x="4761000" y="4643280"/>
            <a:ext cx="142884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directo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9 Rectángulo"/>
          <p:cNvSpPr/>
          <p:nvPr/>
        </p:nvSpPr>
        <p:spPr>
          <a:xfrm>
            <a:off x="6475320" y="271476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20 Rectángulo"/>
          <p:cNvSpPr/>
          <p:nvPr/>
        </p:nvSpPr>
        <p:spPr>
          <a:xfrm>
            <a:off x="6475320" y="335772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1 Rectángulo"/>
          <p:cNvSpPr/>
          <p:nvPr/>
        </p:nvSpPr>
        <p:spPr>
          <a:xfrm>
            <a:off x="6475320" y="4000680"/>
            <a:ext cx="1428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22 Rectángulo"/>
          <p:cNvSpPr/>
          <p:nvPr/>
        </p:nvSpPr>
        <p:spPr>
          <a:xfrm>
            <a:off x="6475320" y="4643280"/>
            <a:ext cx="142884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direc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25 Rectángulo"/>
          <p:cNvSpPr/>
          <p:nvPr/>
        </p:nvSpPr>
        <p:spPr>
          <a:xfrm>
            <a:off x="3117960" y="2714760"/>
            <a:ext cx="142848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ecto indirec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38 CuadroTexto"/>
          <p:cNvSpPr/>
          <p:nvPr/>
        </p:nvSpPr>
        <p:spPr>
          <a:xfrm rot="16200000">
            <a:off x="-2037240" y="31233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PUEDE PASAR EN EL TIEMP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42 Conector recto"/>
          <p:cNvSpPr/>
          <p:nvPr/>
        </p:nvSpPr>
        <p:spPr>
          <a:xfrm flipV="1">
            <a:off x="2046240" y="1571760"/>
            <a:ext cx="264312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45 Conector recto"/>
          <p:cNvSpPr/>
          <p:nvPr/>
        </p:nvSpPr>
        <p:spPr>
          <a:xfrm flipV="1">
            <a:off x="3831480" y="1571760"/>
            <a:ext cx="85716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47 Conector recto"/>
          <p:cNvSpPr/>
          <p:nvPr/>
        </p:nvSpPr>
        <p:spPr>
          <a:xfrm flipH="1" flipV="1">
            <a:off x="4689000" y="1571760"/>
            <a:ext cx="78588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49 Conector recto"/>
          <p:cNvSpPr/>
          <p:nvPr/>
        </p:nvSpPr>
        <p:spPr>
          <a:xfrm flipH="1" flipV="1">
            <a:off x="4689360" y="1571760"/>
            <a:ext cx="250056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50 Flecha arriba"/>
          <p:cNvSpPr/>
          <p:nvPr/>
        </p:nvSpPr>
        <p:spPr>
          <a:xfrm>
            <a:off x="903240" y="2071800"/>
            <a:ext cx="357120" cy="3143160"/>
          </a:xfrm>
          <a:prstGeom prst="upArrow">
            <a:avLst>
              <a:gd name="adj1" fmla="val 66000"/>
              <a:gd name="adj2" fmla="val 4999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51 Flecha arriba"/>
          <p:cNvSpPr/>
          <p:nvPr/>
        </p:nvSpPr>
        <p:spPr>
          <a:xfrm>
            <a:off x="7975440" y="2071800"/>
            <a:ext cx="357480" cy="3143160"/>
          </a:xfrm>
          <a:prstGeom prst="upArrow">
            <a:avLst>
              <a:gd name="adj1" fmla="val 66000"/>
              <a:gd name="adj2" fmla="val 4994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73 Rectángulo"/>
          <p:cNvGrpSpPr/>
          <p:nvPr/>
        </p:nvGrpSpPr>
        <p:grpSpPr>
          <a:xfrm>
            <a:off x="3797280" y="5400720"/>
            <a:ext cx="1542960" cy="744480"/>
            <a:chOff x="3797280" y="5400720"/>
            <a:chExt cx="1542960" cy="744480"/>
          </a:xfrm>
        </p:grpSpPr>
        <p:pic>
          <p:nvPicPr>
            <p:cNvPr id="339" name="73 Rectángulo" descr=""/>
            <p:cNvPicPr/>
            <p:nvPr/>
          </p:nvPicPr>
          <p:blipFill>
            <a:blip r:embed="rId2"/>
            <a:stretch/>
          </p:blipFill>
          <p:spPr>
            <a:xfrm>
              <a:off x="3797280" y="5400720"/>
              <a:ext cx="15429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857760" y="5500800"/>
              <a:ext cx="1428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75 CuadroTexto"/>
          <p:cNvSpPr/>
          <p:nvPr/>
        </p:nvSpPr>
        <p:spPr>
          <a:xfrm rot="5400000">
            <a:off x="6123600" y="333756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PUEDE PASAR EN EL TIEMP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77 Conector recto"/>
          <p:cNvSpPr/>
          <p:nvPr/>
        </p:nvSpPr>
        <p:spPr>
          <a:xfrm flipH="1" flipV="1">
            <a:off x="2046240" y="5214960"/>
            <a:ext cx="252576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79 Conector recto"/>
          <p:cNvSpPr/>
          <p:nvPr/>
        </p:nvSpPr>
        <p:spPr>
          <a:xfrm flipH="1" flipV="1">
            <a:off x="3831840" y="5214960"/>
            <a:ext cx="739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81 Conector recto"/>
          <p:cNvSpPr/>
          <p:nvPr/>
        </p:nvSpPr>
        <p:spPr>
          <a:xfrm flipV="1">
            <a:off x="4571280" y="5214960"/>
            <a:ext cx="9032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83 Conector recto"/>
          <p:cNvSpPr/>
          <p:nvPr/>
        </p:nvSpPr>
        <p:spPr>
          <a:xfrm flipV="1">
            <a:off x="4572000" y="5214960"/>
            <a:ext cx="26179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1. Identificación de potencialidades y limitacion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7 Elaboración de planes de trabajo para equipos técnic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7361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2.8  Formulación de principios, visión y misión.</a:t>
            </a:r>
            <a:r>
              <a:rPr b="1" lang="es-ES" sz="44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Monotype Corsiva"/>
                <a:ea typeface="Gautami"/>
              </a:rPr>
              <a:t>Cuando se alinean alrededor de principios compartidos y en una visión y misión común, personas comunes y corrientes logran resultados extraordinarios”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onotype Corsiva"/>
                <a:ea typeface="Gautam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4 CuadroTexto"/>
          <p:cNvSpPr/>
          <p:nvPr/>
        </p:nvSpPr>
        <p:spPr>
          <a:xfrm>
            <a:off x="2987640" y="535788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Blanchard y O`Conn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Formulación de principios del  PTSA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75600" cy="5429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Formulación de la visión del PTSA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Alicia pregun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 </a:t>
            </a: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Podrías decirme por favor hacia dónde dirigirme aho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El gato respondió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Eso depende de adónde quieras ir”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4 CuadroTexto"/>
          <p:cNvSpPr/>
          <p:nvPr/>
        </p:nvSpPr>
        <p:spPr>
          <a:xfrm>
            <a:off x="3342600" y="52862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Lewis Carro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Qué es la vi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red R. David (2008), autoridad mundial en pensamiento estratégico, nos dice que la visión es “la respuesta a la pregunt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é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remos llegar a se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?”; igualmente, nos dice que (..) “debe ser breve, de preferencia de una sola oración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estas características propuestas por David, podríamos agregar, que debe considerar un tiempo, ser integral, posible, factible, deseable y producto de un amplio ejercicio participativo de formulación. 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…</a:t>
            </a: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Qué es la vi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 acuerdo con lo anterior, si nuestro plan de seguridad alimentaria es una propuesta de largo plazo, que va hasta el año 2015; la visión de nuestro plan será la respuesta a la pregunt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é queremos llegar a ser o cómo queremos vernos en el 2015 en nuestra entidad territorial en materia de alimentación y nutrición?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Identificación de potencialidades y limit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oy la planeación a nivel universal, apoyada en el más antiguo e importante manual de estrategia “el arte de la guerra” de Sun Tzu y concretamente en la referencia que hacíamos al iniciar este capítulo; identifica al diagnóstico, como uno de los primeros y más importantes momentos de la plane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 lo anterior, el diagnóstico representa el segundo momento dentro del ciclo integral para la gestión de planes territoriales de seguridad alimentaria y nutricional, que hemos propuesto desde el capítulo uno y estamos recorrien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1 Título"/>
          <p:cNvSpPr/>
          <p:nvPr/>
        </p:nvSpPr>
        <p:spPr>
          <a:xfrm>
            <a:off x="0" y="4214880"/>
            <a:ext cx="23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3366"/>
                </a:solidFill>
                <a:latin typeface="Arial Narrow"/>
                <a:ea typeface="Times New Roman"/>
              </a:rPr>
              <a:t>Sistémica Interpretación de la Naturaleza de Factores que influyen sobre las Organizaciones y sus Nexos Internos y 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36 Grupo"/>
          <p:cNvGrpSpPr/>
          <p:nvPr/>
        </p:nvGrpSpPr>
        <p:grpSpPr>
          <a:xfrm>
            <a:off x="928800" y="857160"/>
            <a:ext cx="7929360" cy="4714920"/>
            <a:chOff x="928800" y="857160"/>
            <a:chExt cx="7929360" cy="4714920"/>
          </a:xfrm>
        </p:grpSpPr>
        <p:graphicFrame>
          <p:nvGraphicFramePr>
            <p:cNvPr id="373" name="Object 4"/>
            <p:cNvGraphicFramePr/>
            <p:nvPr/>
          </p:nvGraphicFramePr>
          <p:xfrm>
            <a:off x="3983040" y="1749960"/>
            <a:ext cx="1557360" cy="20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3040" y="1749960"/>
                      <a:ext cx="1557360" cy="20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75" name="8 Elipse"/>
            <p:cNvGrpSpPr/>
            <p:nvPr/>
          </p:nvGrpSpPr>
          <p:grpSpPr>
            <a:xfrm>
              <a:off x="3242880" y="4569480"/>
              <a:ext cx="3029760" cy="1002600"/>
              <a:chOff x="3242880" y="4569480"/>
              <a:chExt cx="3029760" cy="1002600"/>
            </a:xfrm>
          </p:grpSpPr>
          <p:pic>
            <p:nvPicPr>
              <p:cNvPr id="376" name="8 Elipse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2880" y="4569480"/>
                <a:ext cx="3029760" cy="10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3732120" y="4737960"/>
                <a:ext cx="205884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   </a:t>
                </a: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REALIDA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17 Elipse"/>
            <p:cNvSpPr/>
            <p:nvPr/>
          </p:nvSpPr>
          <p:spPr>
            <a:xfrm>
              <a:off x="6421320" y="3119400"/>
              <a:ext cx="1758960" cy="41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LÓOG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18 Elipse"/>
            <p:cNvSpPr/>
            <p:nvPr/>
          </p:nvSpPr>
          <p:spPr>
            <a:xfrm>
              <a:off x="2154240" y="3952800"/>
              <a:ext cx="1693800" cy="41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MÁGE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23 Elipse"/>
            <p:cNvSpPr/>
            <p:nvPr/>
          </p:nvSpPr>
          <p:spPr>
            <a:xfrm>
              <a:off x="1546200" y="3178800"/>
              <a:ext cx="1760400" cy="41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SENT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24 Elipse"/>
            <p:cNvSpPr/>
            <p:nvPr/>
          </p:nvSpPr>
          <p:spPr>
            <a:xfrm>
              <a:off x="928800" y="2523600"/>
              <a:ext cx="1760400" cy="41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SÍNT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25 Elipse"/>
            <p:cNvSpPr/>
            <p:nvPr/>
          </p:nvSpPr>
          <p:spPr>
            <a:xfrm>
              <a:off x="7097760" y="2464200"/>
              <a:ext cx="1760400" cy="41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NÁ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27 Conector recto de flecha"/>
            <p:cNvCxnSpPr/>
            <p:nvPr/>
          </p:nvCxnSpPr>
          <p:spPr>
            <a:xfrm flipH="1" flipV="1">
              <a:off x="1815480" y="1749240"/>
              <a:ext cx="2979720" cy="285804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</p:cxnSp>
        <p:cxnSp>
          <p:nvCxnSpPr>
            <p:cNvPr id="384" name="29 Conector recto de flecha"/>
            <p:cNvCxnSpPr/>
            <p:nvPr/>
          </p:nvCxnSpPr>
          <p:spPr>
            <a:xfrm flipV="1">
              <a:off x="4761720" y="1809000"/>
              <a:ext cx="3081600" cy="2798640"/>
            </a:xfrm>
            <a:prstGeom prst="straightConnector1">
              <a:avLst/>
            </a:prstGeom>
            <a:ln w="3816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385" name="30 Elipse"/>
            <p:cNvSpPr/>
            <p:nvPr/>
          </p:nvSpPr>
          <p:spPr>
            <a:xfrm>
              <a:off x="5675400" y="3893400"/>
              <a:ext cx="1760400" cy="41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LENGU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33 CuadroTexto"/>
            <p:cNvSpPr/>
            <p:nvPr/>
          </p:nvSpPr>
          <p:spPr>
            <a:xfrm>
              <a:off x="4112640" y="1273680"/>
              <a:ext cx="148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VIS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35 CuadroTexto"/>
            <p:cNvSpPr/>
            <p:nvPr/>
          </p:nvSpPr>
          <p:spPr>
            <a:xfrm>
              <a:off x="3445200" y="857160"/>
              <a:ext cx="25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l columpio de la v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37 Elipse"/>
          <p:cNvSpPr/>
          <p:nvPr/>
        </p:nvSpPr>
        <p:spPr>
          <a:xfrm>
            <a:off x="1071720" y="5786280"/>
            <a:ext cx="235728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TAF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8 Elipse"/>
          <p:cNvSpPr/>
          <p:nvPr/>
        </p:nvSpPr>
        <p:spPr>
          <a:xfrm>
            <a:off x="6429240" y="5786280"/>
            <a:ext cx="235764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VI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ANT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9 CuadroTexto"/>
          <p:cNvSpPr/>
          <p:nvPr/>
        </p:nvSpPr>
        <p:spPr>
          <a:xfrm>
            <a:off x="4365720" y="5715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étod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41 Forma"/>
          <p:cNvCxnSpPr>
            <a:endCxn id="388" idx="0"/>
          </p:cNvCxnSpPr>
          <p:nvPr/>
        </p:nvCxnSpPr>
        <p:spPr>
          <a:xfrm flipV="1" rot="10800000">
            <a:off x="2248920" y="5571000"/>
            <a:ext cx="2466000" cy="2149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43 Conector curvado"/>
          <p:cNvCxnSpPr/>
          <p:nvPr/>
        </p:nvCxnSpPr>
        <p:spPr>
          <a:xfrm flipH="1" rot="16200000">
            <a:off x="6101280" y="4255560"/>
            <a:ext cx="214920" cy="284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4" name="27 Rectángulo"/>
          <p:cNvSpPr/>
          <p:nvPr/>
        </p:nvSpPr>
        <p:spPr>
          <a:xfrm>
            <a:off x="435600" y="5000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3366"/>
                </a:solidFill>
                <a:latin typeface="Arial"/>
              </a:rPr>
              <a:t>SINFO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8 Rectángulo"/>
          <p:cNvSpPr/>
          <p:nvPr/>
        </p:nvSpPr>
        <p:spPr>
          <a:xfrm>
            <a:off x="23400" y="535788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nkmodell Dialog Design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 Título"/>
          <p:cNvSpPr/>
          <p:nvPr/>
        </p:nvSpPr>
        <p:spPr>
          <a:xfrm>
            <a:off x="1000080" y="0"/>
            <a:ext cx="761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Cómo formular una visió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…</a:t>
            </a: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Por qué una visió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Monotype Corsiva"/>
              </a:rPr>
              <a:t>Depender de manera exclusiva de un problema concreto y pretender un objetivo determinado, es tener una “visión de túnel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Rectángulo"/>
          <p:cNvSpPr/>
          <p:nvPr/>
        </p:nvSpPr>
        <p:spPr>
          <a:xfrm>
            <a:off x="3935880" y="4572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3366"/>
                </a:solidFill>
                <a:latin typeface="Arial"/>
              </a:rPr>
              <a:t>SINFO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71360" y="2143080"/>
            <a:ext cx="7529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Diseño metafórico de la v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2 Marcador de contenido"/>
          <p:cNvSpPr/>
          <p:nvPr/>
        </p:nvSpPr>
        <p:spPr>
          <a:xfrm>
            <a:off x="714240" y="135720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uscamos una imagen lingüística (que podamos también dibujar realmente) y que describa las expectativas de futuro del tema o entidad objeto de análisis,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n una metáfor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143000" y="142920"/>
            <a:ext cx="7529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Diseño metafórico de la 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3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2 Marcador de contenido"/>
          <p:cNvSpPr/>
          <p:nvPr/>
        </p:nvSpPr>
        <p:spPr>
          <a:xfrm>
            <a:off x="1000080" y="85716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7 Rectángulo"/>
          <p:cNvSpPr/>
          <p:nvPr/>
        </p:nvSpPr>
        <p:spPr>
          <a:xfrm>
            <a:off x="1000080" y="1071720"/>
            <a:ext cx="792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metáfor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(del </a:t>
            </a:r>
            <a:r>
              <a:rPr b="0" lang="es-CO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griego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400" spc="-1" strike="noStrike">
                <a:solidFill>
                  <a:srgbClr val="000000"/>
                </a:solidFill>
                <a:latin typeface="Arial"/>
              </a:rPr>
              <a:t>metá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CO" sz="2400" spc="-1" strike="noStrike">
                <a:solidFill>
                  <a:srgbClr val="000000"/>
                </a:solidFill>
                <a:latin typeface="Arial"/>
              </a:rPr>
              <a:t>metastas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'más allá, después de; y </a:t>
            </a:r>
            <a:r>
              <a:rPr b="0" i="1" lang="es-CO" sz="2400" spc="-1" strike="noStrike">
                <a:solidFill>
                  <a:srgbClr val="000000"/>
                </a:solidFill>
                <a:latin typeface="Arial"/>
              </a:rPr>
              <a:t>phorein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, 'pasar, llevar'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Consiste en el uso de una expresión con un significado distinto o en un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contexto diferente al habi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l término es importante tanto en </a:t>
            </a:r>
            <a:r>
              <a:rPr b="0" lang="es-CO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teoría literari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(donde se usa como </a:t>
            </a:r>
            <a:r>
              <a:rPr b="0" lang="es-CO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ecurso literario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) como en </a:t>
            </a:r>
            <a:r>
              <a:rPr b="0" lang="es-CO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ingüístic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(donde es una de las principales causas de </a:t>
            </a:r>
            <a:r>
              <a:rPr b="0" lang="es-CO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cambio semántico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utiliza también en </a:t>
            </a:r>
            <a:r>
              <a:rPr b="0" lang="es-CO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sicología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para referirse al poder profundo de "las historias - metafóricas" y su acción en el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cambio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interno, la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visión o el paso a un nivel de conciencia más prof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 Título"/>
          <p:cNvSpPr/>
          <p:nvPr/>
        </p:nvSpPr>
        <p:spPr>
          <a:xfrm>
            <a:off x="1000080" y="0"/>
            <a:ext cx="761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Y qué es una metáfor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7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928800" y="1428840"/>
            <a:ext cx="7529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b050"/>
                </a:solidFill>
                <a:latin typeface="Calibri"/>
              </a:rPr>
              <a:t>Un ejemplo para ilustrar la formulación de la v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mpresa consultora y de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2 Marcador de contenido"/>
          <p:cNvSpPr/>
          <p:nvPr/>
        </p:nvSpPr>
        <p:spPr>
          <a:xfrm>
            <a:off x="1000080" y="85716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2 Marcador de contenido"/>
          <p:cNvSpPr/>
          <p:nvPr/>
        </p:nvSpPr>
        <p:spPr>
          <a:xfrm>
            <a:off x="928800" y="9288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i="1" lang="es-ES_tradnl" sz="2400" spc="-1" strike="noStrike">
                <a:solidFill>
                  <a:srgbClr val="6600ff"/>
                </a:solidFill>
                <a:latin typeface="Arial"/>
              </a:rPr>
              <a:t>Deseamos ser un pequeño circo famili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cc33"/>
                </a:solidFill>
                <a:latin typeface="Arial"/>
              </a:rPr>
              <a:t>muy concur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en el que trabajen artistas de gran categoría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 Título"/>
          <p:cNvSpPr/>
          <p:nvPr/>
        </p:nvSpPr>
        <p:spPr>
          <a:xfrm>
            <a:off x="785880" y="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Para nuestro ejemplo podría ser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1" descr="http://farm3.static.flickr.com/2232/2402478815_9a826a37a4.jpg"/>
          <p:cNvPicPr/>
          <p:nvPr/>
        </p:nvPicPr>
        <p:blipFill>
          <a:blip r:embed="rId1"/>
          <a:stretch/>
        </p:blipFill>
        <p:spPr>
          <a:xfrm>
            <a:off x="2143080" y="3071880"/>
            <a:ext cx="4772160" cy="271296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2 Marcador de contenido"/>
          <p:cNvSpPr/>
          <p:nvPr/>
        </p:nvSpPr>
        <p:spPr>
          <a:xfrm>
            <a:off x="1000080" y="85716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2 Marcador de contenido"/>
          <p:cNvSpPr/>
          <p:nvPr/>
        </p:nvSpPr>
        <p:spPr>
          <a:xfrm>
            <a:off x="92880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artistas actú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ignifica la carpa comú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s directores h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 cuesta la entrad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el ambiente 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l es la diferencia con las empresas de la competenc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irco itinerante o es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rograma fijo o representaciones especiales adaptadas a la medida de un público espe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 Título"/>
          <p:cNvSpPr/>
          <p:nvPr/>
        </p:nvSpPr>
        <p:spPr>
          <a:xfrm>
            <a:off x="857160" y="0"/>
            <a:ext cx="8072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Esta imagen anima la investigació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546960" y="1047600"/>
            <a:ext cx="2408040" cy="2725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3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3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3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3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3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Cataratas Victoria-7"/>
          <p:cNvPicPr/>
          <p:nvPr/>
        </p:nvPicPr>
        <p:blipFill>
          <a:blip r:embed="rId1"/>
          <a:stretch/>
        </p:blipFill>
        <p:spPr>
          <a:xfrm>
            <a:off x="857160" y="1214280"/>
            <a:ext cx="7721640" cy="5143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4"/>
          <p:cNvSpPr/>
          <p:nvPr/>
        </p:nvSpPr>
        <p:spPr>
          <a:xfrm>
            <a:off x="1285920" y="0"/>
            <a:ext cx="7529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Diseño de la visión mediante un viaje fantást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8 CuadroTexto"/>
          <p:cNvSpPr/>
          <p:nvPr/>
        </p:nvSpPr>
        <p:spPr>
          <a:xfrm>
            <a:off x="2378520" y="648828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aratas Victoria – Frontera de Zambia y Zimba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2 Marcador de contenido"/>
          <p:cNvSpPr/>
          <p:nvPr/>
        </p:nvSpPr>
        <p:spPr>
          <a:xfrm>
            <a:off x="1000080" y="1357200"/>
            <a:ext cx="782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agine de la manera más concreta,  el estado deseado, posible y factible de su área de problemática, sus objetivos, o tema objeto de análisis, en un plazo de 10 a 1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Qué es lo que 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Qué es lo que oy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Qué es lo que le gusta y hu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Qué s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ómo son las person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285920" y="0"/>
            <a:ext cx="7529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Arial"/>
                <a:ea typeface="Arial"/>
              </a:rPr>
              <a:t>Diseño de la visión mediante un viaje fant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3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3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3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3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3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3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3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6:40:43Z</dcterms:created>
  <dc:creator>VICTOR HUGO CESPEDES GOMEZ</dc:creator>
  <dc:description/>
  <dc:language>en-US</dc:language>
  <cp:lastModifiedBy>USUARIO</cp:lastModifiedBy>
  <dcterms:modified xsi:type="dcterms:W3CDTF">2010-03-15T15:58:57Z</dcterms:modified>
  <cp:revision>2569</cp:revision>
  <dc:subject/>
  <dc:title>GUIA GIPTSAN V 1.0</dc:title>
</cp:coreProperties>
</file>