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9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28.wmf" ContentType="image/x-wmf"/>
  <Override PartName="/ppt/media/image10.png" ContentType="image/png"/>
  <Override PartName="/ppt/media/image47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40.wmf" ContentType="image/x-wmf"/>
  <Override PartName="/ppt/media/image45.png" ContentType="image/png"/>
  <Override PartName="/ppt/media/image30.wmf" ContentType="image/x-wmf"/>
  <Override PartName="/ppt/media/image50.png" ContentType="image/png"/>
  <Override PartName="/ppt/media/image33.wmf" ContentType="image/x-wmf"/>
  <Override PartName="/ppt/media/image13.png" ContentType="image/png"/>
  <Override PartName="/ppt/media/image51.png" ContentType="image/png"/>
  <Override PartName="/ppt/media/image34.wmf" ContentType="image/x-wmf"/>
  <Override PartName="/ppt/media/image52.png" ContentType="image/png"/>
  <Override PartName="/ppt/media/image35.wmf" ContentType="image/x-wmf"/>
  <Override PartName="/ppt/media/image53.png" ContentType="image/png"/>
  <Override PartName="/ppt/media/image54.png" ContentType="image/png"/>
  <Override PartName="/ppt/media/image37.wmf" ContentType="image/x-wmf"/>
  <Override PartName="/ppt/media/image55.png" ContentType="image/png"/>
  <Override PartName="/ppt/media/image38.wmf" ContentType="image/x-wmf"/>
  <Override PartName="/ppt/media/image43.wmf" ContentType="image/x-wmf"/>
  <Override PartName="/ppt/media/image58.png" ContentType="image/png"/>
  <Override PartName="/ppt/media/image44.png" ContentType="image/png"/>
  <Override PartName="/ppt/media/image56.png" ContentType="image/png"/>
  <Override PartName="/ppt/media/image39.wmf" ContentType="image/x-wmf"/>
  <Override PartName="/ppt/media/image46.wmf" ContentType="image/x-wmf"/>
  <Override PartName="/ppt/media/image59.png" ContentType="image/png"/>
  <Override PartName="/ppt/media/image32.wmf" ContentType="image/x-wmf"/>
  <Override PartName="/ppt/media/image49.png" ContentType="image/png"/>
  <Override PartName="/ppt/media/image12.png" ContentType="image/png"/>
  <Override PartName="/ppt/media/image31.wmf" ContentType="image/x-wmf"/>
  <Override PartName="/ppt/media/image42.wmf" ContentType="image/x-wmf"/>
  <Override PartName="/ppt/media/image9.png" ContentType="image/png"/>
  <Override PartName="/ppt/media/image41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382-EF7B-45FF-AE42-34D51F26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3DC-D4DA-4E64-9300-8C704CF2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5BD-35ED-4E4E-BAAD-F6479454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713C-E5F6-45A9-ADC2-0FC9D14A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5109-3181-4CD2-812C-3F67404F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BFAE-1236-4265-9301-1AB26D19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EBB-5B8E-4B07-A024-22453C5A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939C-0710-4398-B04A-897DA576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5B1A-AD6A-4419-86C2-A6F8FE93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995-1BB2-4F87-BC65-C192E022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3A2-4131-48D1-A9D1-9DB2C275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B2F-F5FD-4D2A-86CD-73561857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3547-63FF-495B-9162-B7638FB9AA7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Victor Hugo Céspedes Gómez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D9A0-CE43-485A-B045-A268A9FFE84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2130120"/>
            <a:ext cx="8572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6000" spc="-1" strike="noStrike">
                <a:solidFill>
                  <a:srgbClr val="e46c0a"/>
                </a:solidFill>
                <a:latin typeface="Monotype Corsiva"/>
              </a:rPr>
              <a:t>Capítulo 5.</a:t>
            </a:r>
            <a:br>
              <a:rPr sz="6000"/>
            </a:br>
            <a:r>
              <a:rPr b="1" lang="es-ES" sz="6000" spc="-1" strike="noStrike">
                <a:solidFill>
                  <a:srgbClr val="e46c0a"/>
                </a:solidFill>
                <a:latin typeface="Monotype Corsiva"/>
              </a:rPr>
              <a:t> Seguimiento, evaluación  y acciones correctivas al pla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5.1.  El control sobre un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El control sobre un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l hacer referencia al seguimiento y la evaluación de un plan territorial de seguridad alimentaria y nutricional, es necesario partir del concepto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control.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sto por cuanto el control en tanto que función administrativa, implica decidir, medir, analizar, innovar, implementar y actuar correctivamente, a partir de acciones conjuntas de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seguimient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o y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evalu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El control sobre un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guimient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s definido por la OCDE (2002) como una “función continua que utiliza la recolección sistemática de datos sobre indicadores especificados con el fin de proporcionar a los directivos de una mediación del desarrollo en curso y las principales partes interesadas, indicadores sobre el grado de avances y los logros de objetivos y progresos en la utilización de fondos asignados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El control sobre un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sí mismo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OCDE (2002) define 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valuació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como “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la evaluación sistemática y objetiva de un proyecto, un programa en curso o terminado o de las políticas, comprendiendo su diseño, ejecución y resulta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Lo que busca es determinar la relevancia y satisfacción de los objetivos, la eficiencia del desarrollo, su efectividad, impacto y sostenibilidad”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El control sobre un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000000"/>
                </a:solidFill>
                <a:latin typeface="Calibri"/>
              </a:rPr>
              <a:t>Jody Zall Kusek - Ray C. Rist (2005) señalan que “al </a:t>
            </a: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yuxtaponer las definiciones de seguimiento y evaluación de OCDE (2002), de inmediato se hace evidente que, aunque siendo distintas, son </a:t>
            </a: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complementarias</a:t>
            </a: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 u="sng">
                <a:solidFill>
                  <a:srgbClr val="000000"/>
                </a:solidFill>
                <a:uFillTx/>
                <a:latin typeface="Calibri"/>
              </a:rPr>
              <a:t>Hacer seguimiento ofrece información sobre la situación de las políticas, de un programa o de un proyecto en un momento dado (y en el tiempo) relativa a objetivos y efectos respectivos</a:t>
            </a: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Hacer seguimiento es </a:t>
            </a: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descriptivo</a:t>
            </a: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 en su intención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 u="sng">
                <a:solidFill>
                  <a:srgbClr val="000000"/>
                </a:solidFill>
                <a:uFillTx/>
                <a:latin typeface="Calibri"/>
              </a:rPr>
              <a:t>La evaluación ofrece evidencias de por qué los objetivos y los efectos se están o no logrando</a:t>
            </a: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. Busca resolver </a:t>
            </a: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problemas de causalidad</a:t>
            </a: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. A la expansión de la función tradicional de sistemas de SyE se le debe asignar un énfasis especial para poner un </a:t>
            </a:r>
            <a:r>
              <a:rPr b="1" lang="es-ES" sz="2300" spc="-1" strike="noStrike" u="sng">
                <a:solidFill>
                  <a:srgbClr val="000000"/>
                </a:solidFill>
                <a:uFillTx/>
                <a:latin typeface="Calibri"/>
              </a:rPr>
              <a:t>enfoque explícito en efectos e impactos”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El control sobre un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 acuerdo con lo anterior, el plan territorial requiere de un sistema de seguimiento y evaluació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plan precisa un seguimiento que genere de manera descriptiva, información sobre la ejecución, sus productos, resultados, el propósito y los fi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gualmente y de manera simultánea con el seguimiento, el plan territorial precisa de un sistema de evaluación que mida los resultados, el propósito, efectos e impactos reales generados y suministre evidencias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or qué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se están o no logran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este contexto el seguimiento y la evaluación, deben ser acciones conjuntas enmarcadas en el concepto control, y expresadas allí, de manera estratégica, táctica y operativ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5.1.1  Componentes de un plan y tipos de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Componentes de un plan y tipos de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l control como componente del proceso administrativo de un plan territorial de seguridad alimentaria y nutricional, presenta tres niveles que integran acciones simultáneas de seguimiento y evaluación: el control estratégico, el control táctico y el control operativo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1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49 CuadroTexto"/>
          <p:cNvSpPr/>
          <p:nvPr/>
        </p:nvSpPr>
        <p:spPr>
          <a:xfrm>
            <a:off x="642960" y="64882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uente: </a:t>
            </a:r>
            <a:r>
              <a:rPr b="0" lang="es-CO" sz="900" spc="-1" strike="noStrike">
                <a:solidFill>
                  <a:srgbClr val="000000"/>
                </a:solidFill>
                <a:latin typeface="Arial"/>
              </a:rPr>
              <a:t>PINEAULT, Raynald; DAVELUY, Carole 1995. Adaptación Céspedes 2009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664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e46c0a"/>
                </a:solidFill>
                <a:latin typeface="Calibri"/>
                <a:ea typeface="Arial"/>
              </a:rPr>
              <a:t>Tipos de Control </a:t>
            </a:r>
            <a:br>
              <a:rPr sz="3200"/>
            </a:br>
            <a:r>
              <a:rPr b="1" lang="es-ES" sz="3200" spc="-1" strike="noStrike">
                <a:solidFill>
                  <a:srgbClr val="e46c0a"/>
                </a:solidFill>
                <a:latin typeface="Calibri"/>
                <a:ea typeface="Arial"/>
              </a:rPr>
              <a:t>sobre los componentes de un PTSA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2 Rectángulo"/>
          <p:cNvSpPr/>
          <p:nvPr/>
        </p:nvSpPr>
        <p:spPr>
          <a:xfrm>
            <a:off x="214200" y="1562040"/>
            <a:ext cx="1087560" cy="866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Estado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alimentario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nutricional actual de territorios y pobl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 Rectángulo"/>
          <p:cNvSpPr/>
          <p:nvPr/>
        </p:nvSpPr>
        <p:spPr>
          <a:xfrm>
            <a:off x="214200" y="3895560"/>
            <a:ext cx="1087560" cy="10670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Gestión de conocimiento y recursos disponi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4 Rectángulo"/>
          <p:cNvSpPr/>
          <p:nvPr/>
        </p:nvSpPr>
        <p:spPr>
          <a:xfrm>
            <a:off x="214200" y="2695680"/>
            <a:ext cx="1087560" cy="8665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Bienes y  servici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producido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utiliz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9 Rectángulo"/>
          <p:cNvSpPr/>
          <p:nvPr/>
        </p:nvSpPr>
        <p:spPr>
          <a:xfrm>
            <a:off x="1565280" y="1562040"/>
            <a:ext cx="1087560" cy="866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Brechas  alimentarias y nutricio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0 Rectángulo"/>
          <p:cNvSpPr/>
          <p:nvPr/>
        </p:nvSpPr>
        <p:spPr>
          <a:xfrm>
            <a:off x="1565280" y="2695680"/>
            <a:ext cx="1087560" cy="86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Brechas de bienes y  servicios , consumidos  y us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1 Rectángulo"/>
          <p:cNvSpPr/>
          <p:nvPr/>
        </p:nvSpPr>
        <p:spPr>
          <a:xfrm>
            <a:off x="1565280" y="3895560"/>
            <a:ext cx="1087560" cy="1067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Brechas de gestión de conocimiento y    recurs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13 Conector recto de flecha"/>
          <p:cNvCxnSpPr>
            <a:stCxn id="94" idx="0"/>
            <a:endCxn id="95" idx="2"/>
          </p:cNvCxnSpPr>
          <p:nvPr/>
        </p:nvCxnSpPr>
        <p:spPr>
          <a:xfrm flipV="1">
            <a:off x="756000" y="3563640"/>
            <a:ext cx="252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15 Conector recto de flecha"/>
          <p:cNvCxnSpPr>
            <a:stCxn id="95" idx="0"/>
            <a:endCxn id="93" idx="2"/>
          </p:cNvCxnSpPr>
          <p:nvPr/>
        </p:nvCxnSpPr>
        <p:spPr>
          <a:xfrm flipV="1">
            <a:off x="756000" y="2428200"/>
            <a:ext cx="2520" cy="26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5 Rectángulo"/>
          <p:cNvSpPr/>
          <p:nvPr/>
        </p:nvSpPr>
        <p:spPr>
          <a:xfrm>
            <a:off x="2917800" y="1562040"/>
            <a:ext cx="1087560" cy="866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Estado alimentario y nutricional desead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6 Rectángulo"/>
          <p:cNvSpPr/>
          <p:nvPr/>
        </p:nvSpPr>
        <p:spPr>
          <a:xfrm>
            <a:off x="2917800" y="2695680"/>
            <a:ext cx="1087560" cy="866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Bienes y servicios requeridos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consumo y uso dese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7 Rectángulo"/>
          <p:cNvSpPr/>
          <p:nvPr/>
        </p:nvSpPr>
        <p:spPr>
          <a:xfrm>
            <a:off x="2917800" y="3895560"/>
            <a:ext cx="1087560" cy="1067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Gestión de conocimiento y recursos requer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26 Rectángulo"/>
          <p:cNvSpPr/>
          <p:nvPr/>
        </p:nvSpPr>
        <p:spPr>
          <a:xfrm>
            <a:off x="4268880" y="1562040"/>
            <a:ext cx="1087200" cy="866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Brechas  alimentarias y nutricio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28 Rectángulo"/>
          <p:cNvSpPr/>
          <p:nvPr/>
        </p:nvSpPr>
        <p:spPr>
          <a:xfrm>
            <a:off x="4268880" y="2695680"/>
            <a:ext cx="1087200" cy="86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Brechas de bienes  y servicios  consumidos  y usad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30 Rectángulo"/>
          <p:cNvSpPr/>
          <p:nvPr/>
        </p:nvSpPr>
        <p:spPr>
          <a:xfrm>
            <a:off x="4268880" y="3895560"/>
            <a:ext cx="1087200" cy="1067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Brechas de gestión de conocimiento y    recurs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35 Rectángulo"/>
          <p:cNvSpPr/>
          <p:nvPr/>
        </p:nvSpPr>
        <p:spPr>
          <a:xfrm>
            <a:off x="5553000" y="1562040"/>
            <a:ext cx="1087560" cy="866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Resultados  alimentarios y nutricionales alcanz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36 Rectángulo"/>
          <p:cNvSpPr/>
          <p:nvPr/>
        </p:nvSpPr>
        <p:spPr>
          <a:xfrm>
            <a:off x="5553000" y="2695680"/>
            <a:ext cx="1087560" cy="866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Bienes y servicios producidos, consumidos 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utiliz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7 Rectángulo"/>
          <p:cNvSpPr/>
          <p:nvPr/>
        </p:nvSpPr>
        <p:spPr>
          <a:xfrm>
            <a:off x="5553000" y="3895560"/>
            <a:ext cx="1087560" cy="1067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Conocimiento  y recurs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moviliz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2 Rectángulo"/>
          <p:cNvSpPr/>
          <p:nvPr/>
        </p:nvSpPr>
        <p:spPr>
          <a:xfrm>
            <a:off x="7643880" y="1571760"/>
            <a:ext cx="735120" cy="857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alibri"/>
              </a:rPr>
              <a:t>Efec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43 Rectángulo"/>
          <p:cNvSpPr/>
          <p:nvPr/>
        </p:nvSpPr>
        <p:spPr>
          <a:xfrm>
            <a:off x="7643880" y="428760"/>
            <a:ext cx="735120" cy="86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Evaluación de imp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45 Rectángulo"/>
          <p:cNvGrpSpPr/>
          <p:nvPr/>
        </p:nvGrpSpPr>
        <p:grpSpPr>
          <a:xfrm>
            <a:off x="6656400" y="3895560"/>
            <a:ext cx="957240" cy="1109880"/>
            <a:chOff x="6656400" y="3895560"/>
            <a:chExt cx="957240" cy="1109880"/>
          </a:xfrm>
        </p:grpSpPr>
        <p:pic>
          <p:nvPicPr>
            <p:cNvPr id="113" name="45 Rectángulo" descr=""/>
            <p:cNvPicPr/>
            <p:nvPr/>
          </p:nvPicPr>
          <p:blipFill>
            <a:blip r:embed="rId2"/>
            <a:stretch/>
          </p:blipFill>
          <p:spPr>
            <a:xfrm>
              <a:off x="6656400" y="3895560"/>
              <a:ext cx="9572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716880" y="3929040"/>
              <a:ext cx="83952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100" spc="-1" strike="noStrike">
                  <a:solidFill>
                    <a:srgbClr val="ffffff"/>
                  </a:solidFill>
                  <a:latin typeface="Calibri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100" spc="-1" strike="noStrike">
                  <a:solidFill>
                    <a:srgbClr val="ffffff"/>
                  </a:solidFill>
                  <a:latin typeface="Calibri"/>
                </a:rPr>
                <a:t>Operativ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46 Rectángulo"/>
          <p:cNvGrpSpPr/>
          <p:nvPr/>
        </p:nvGrpSpPr>
        <p:grpSpPr>
          <a:xfrm>
            <a:off x="6656400" y="2676600"/>
            <a:ext cx="957240" cy="968400"/>
            <a:chOff x="6656400" y="2676600"/>
            <a:chExt cx="957240" cy="968400"/>
          </a:xfrm>
        </p:grpSpPr>
        <p:pic>
          <p:nvPicPr>
            <p:cNvPr id="116" name="46 Rectángulo" descr=""/>
            <p:cNvPicPr/>
            <p:nvPr/>
          </p:nvPicPr>
          <p:blipFill>
            <a:blip r:embed="rId3"/>
            <a:stretch/>
          </p:blipFill>
          <p:spPr>
            <a:xfrm>
              <a:off x="6656400" y="2676600"/>
              <a:ext cx="9572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716880" y="2714760"/>
              <a:ext cx="83952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100" spc="-1" strike="noStrike">
                  <a:solidFill>
                    <a:srgbClr val="ffffff"/>
                  </a:solidFill>
                  <a:latin typeface="Calibri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100" spc="-1" strike="noStrike">
                  <a:solidFill>
                    <a:srgbClr val="ffffff"/>
                  </a:solidFill>
                  <a:latin typeface="Calibri"/>
                </a:rPr>
                <a:t>táctico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47 Rectángulo"/>
          <p:cNvGrpSpPr/>
          <p:nvPr/>
        </p:nvGrpSpPr>
        <p:grpSpPr>
          <a:xfrm>
            <a:off x="152280" y="5059440"/>
            <a:ext cx="3895920" cy="573120"/>
            <a:chOff x="152280" y="5059440"/>
            <a:chExt cx="3895920" cy="573120"/>
          </a:xfrm>
        </p:grpSpPr>
        <p:pic>
          <p:nvPicPr>
            <p:cNvPr id="119" name="47 Rectángulo" descr=""/>
            <p:cNvPicPr/>
            <p:nvPr/>
          </p:nvPicPr>
          <p:blipFill>
            <a:blip r:embed="rId4"/>
            <a:stretch/>
          </p:blipFill>
          <p:spPr>
            <a:xfrm>
              <a:off x="152280" y="5059440"/>
              <a:ext cx="38959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14200" y="5095800"/>
              <a:ext cx="37753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Calibri"/>
                </a:rPr>
                <a:t>Control Prospectivo Estratég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Calibri"/>
                </a:rPr>
                <a:t>Evaluación   Ex ante  de </a:t>
              </a:r>
              <a:r>
                <a:rPr b="1" lang="es-ES" sz="1100" spc="-1" strike="noStrike" u="sng">
                  <a:solidFill>
                    <a:srgbClr val="ffffff"/>
                  </a:solidFill>
                  <a:uFillTx/>
                  <a:latin typeface="Calibri"/>
                </a:rPr>
                <a:t>Pertinencia Teór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49 Rectángulo"/>
          <p:cNvGrpSpPr/>
          <p:nvPr/>
        </p:nvGrpSpPr>
        <p:grpSpPr>
          <a:xfrm>
            <a:off x="152280" y="5924520"/>
            <a:ext cx="8906040" cy="579600"/>
            <a:chOff x="152280" y="5924520"/>
            <a:chExt cx="8906040" cy="579600"/>
          </a:xfrm>
        </p:grpSpPr>
        <p:pic>
          <p:nvPicPr>
            <p:cNvPr id="122" name="49 Rectángulo" descr=""/>
            <p:cNvPicPr/>
            <p:nvPr/>
          </p:nvPicPr>
          <p:blipFill>
            <a:blip r:embed="rId5"/>
            <a:stretch/>
          </p:blipFill>
          <p:spPr>
            <a:xfrm>
              <a:off x="152280" y="5924520"/>
              <a:ext cx="890604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14200" y="5962680"/>
              <a:ext cx="878688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Calibri"/>
                </a:rPr>
                <a:t>Control Retrospectivo Estratég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Calibri"/>
                </a:rPr>
                <a:t>Evaluación  Ex post  de </a:t>
              </a:r>
              <a:r>
                <a:rPr b="1" lang="es-ES" sz="1100" spc="-1" strike="noStrike" u="sng">
                  <a:solidFill>
                    <a:srgbClr val="ffffff"/>
                  </a:solidFill>
                  <a:uFillTx/>
                  <a:latin typeface="Calibri"/>
                </a:rPr>
                <a:t>Pertinencia Real o  Empír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51 Conector recto"/>
          <p:cNvSpPr/>
          <p:nvPr/>
        </p:nvSpPr>
        <p:spPr>
          <a:xfrm>
            <a:off x="1301760" y="199548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52 Conector recto"/>
          <p:cNvSpPr/>
          <p:nvPr/>
        </p:nvSpPr>
        <p:spPr>
          <a:xfrm>
            <a:off x="2647800" y="2028960"/>
            <a:ext cx="26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53 Conector recto"/>
          <p:cNvSpPr/>
          <p:nvPr/>
        </p:nvSpPr>
        <p:spPr>
          <a:xfrm>
            <a:off x="1295280" y="3095640"/>
            <a:ext cx="26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54 Conector recto"/>
          <p:cNvSpPr/>
          <p:nvPr/>
        </p:nvSpPr>
        <p:spPr>
          <a:xfrm>
            <a:off x="1295280" y="4429080"/>
            <a:ext cx="265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55 Conector recto"/>
          <p:cNvSpPr/>
          <p:nvPr/>
        </p:nvSpPr>
        <p:spPr>
          <a:xfrm>
            <a:off x="2647800" y="3095640"/>
            <a:ext cx="26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56 Conector recto"/>
          <p:cNvSpPr/>
          <p:nvPr/>
        </p:nvSpPr>
        <p:spPr>
          <a:xfrm>
            <a:off x="2647800" y="4429080"/>
            <a:ext cx="26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58 Conector recto"/>
          <p:cNvSpPr/>
          <p:nvPr/>
        </p:nvSpPr>
        <p:spPr>
          <a:xfrm>
            <a:off x="3998880" y="2028960"/>
            <a:ext cx="26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59 Conector recto"/>
          <p:cNvSpPr/>
          <p:nvPr/>
        </p:nvSpPr>
        <p:spPr>
          <a:xfrm>
            <a:off x="3998880" y="3095640"/>
            <a:ext cx="26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60 Conector recto"/>
          <p:cNvSpPr/>
          <p:nvPr/>
        </p:nvSpPr>
        <p:spPr>
          <a:xfrm>
            <a:off x="3998880" y="4429080"/>
            <a:ext cx="265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65 Conector recto"/>
          <p:cNvSpPr/>
          <p:nvPr/>
        </p:nvSpPr>
        <p:spPr>
          <a:xfrm>
            <a:off x="5356080" y="1995480"/>
            <a:ext cx="19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66 Conector recto"/>
          <p:cNvSpPr/>
          <p:nvPr/>
        </p:nvSpPr>
        <p:spPr>
          <a:xfrm>
            <a:off x="5349960" y="3095640"/>
            <a:ext cx="196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68 Conector recto"/>
          <p:cNvSpPr/>
          <p:nvPr/>
        </p:nvSpPr>
        <p:spPr>
          <a:xfrm>
            <a:off x="5349960" y="4429080"/>
            <a:ext cx="196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70 Conector recto"/>
          <p:cNvSpPr/>
          <p:nvPr/>
        </p:nvSpPr>
        <p:spPr>
          <a:xfrm flipH="1" flipV="1">
            <a:off x="4809600" y="1428840"/>
            <a:ext cx="180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85 Conector recto de flecha"/>
          <p:cNvCxnSpPr/>
          <p:nvPr/>
        </p:nvCxnSpPr>
        <p:spPr>
          <a:xfrm flipV="1">
            <a:off x="1901880" y="5563440"/>
            <a:ext cx="2160" cy="40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89 Conector recto de flecha"/>
          <p:cNvCxnSpPr>
            <a:stCxn id="109" idx="0"/>
            <a:endCxn id="108" idx="2"/>
          </p:cNvCxnSpPr>
          <p:nvPr/>
        </p:nvCxnSpPr>
        <p:spPr>
          <a:xfrm flipV="1">
            <a:off x="6094800" y="3561840"/>
            <a:ext cx="252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91 Conector recto de flecha"/>
          <p:cNvCxnSpPr>
            <a:stCxn id="108" idx="0"/>
            <a:endCxn id="107" idx="2"/>
          </p:cNvCxnSpPr>
          <p:nvPr/>
        </p:nvCxnSpPr>
        <p:spPr>
          <a:xfrm flipV="1">
            <a:off x="6094800" y="2428560"/>
            <a:ext cx="25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0" name="115 Conector recto"/>
          <p:cNvSpPr/>
          <p:nvPr/>
        </p:nvSpPr>
        <p:spPr>
          <a:xfrm>
            <a:off x="4786200" y="1428840"/>
            <a:ext cx="32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124 Conector recto de flecha"/>
          <p:cNvCxnSpPr/>
          <p:nvPr/>
        </p:nvCxnSpPr>
        <p:spPr>
          <a:xfrm flipV="1">
            <a:off x="4827960" y="3715560"/>
            <a:ext cx="252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2" name="127 Conector recto"/>
          <p:cNvSpPr/>
          <p:nvPr/>
        </p:nvSpPr>
        <p:spPr>
          <a:xfrm>
            <a:off x="4829040" y="3714840"/>
            <a:ext cx="230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128 Conector recto de flecha"/>
          <p:cNvCxnSpPr/>
          <p:nvPr/>
        </p:nvCxnSpPr>
        <p:spPr>
          <a:xfrm flipV="1">
            <a:off x="4827960" y="2571120"/>
            <a:ext cx="25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4" name="136 Conector recto"/>
          <p:cNvSpPr/>
          <p:nvPr/>
        </p:nvSpPr>
        <p:spPr>
          <a:xfrm>
            <a:off x="4829040" y="2571840"/>
            <a:ext cx="230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149 Conector recto de flecha"/>
          <p:cNvCxnSpPr/>
          <p:nvPr/>
        </p:nvCxnSpPr>
        <p:spPr>
          <a:xfrm flipH="1">
            <a:off x="7136640" y="3573360"/>
            <a:ext cx="1080" cy="35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146" name="161 Rectángulo"/>
          <p:cNvGrpSpPr/>
          <p:nvPr/>
        </p:nvGrpSpPr>
        <p:grpSpPr>
          <a:xfrm>
            <a:off x="6656400" y="1536840"/>
            <a:ext cx="957240" cy="961920"/>
            <a:chOff x="6656400" y="1536840"/>
            <a:chExt cx="957240" cy="961920"/>
          </a:xfrm>
        </p:grpSpPr>
        <p:pic>
          <p:nvPicPr>
            <p:cNvPr id="147" name="161 Rectángulo" descr=""/>
            <p:cNvPicPr/>
            <p:nvPr/>
          </p:nvPicPr>
          <p:blipFill>
            <a:blip r:embed="rId6"/>
            <a:stretch/>
          </p:blipFill>
          <p:spPr>
            <a:xfrm>
              <a:off x="6656400" y="1536840"/>
              <a:ext cx="95724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716880" y="1571760"/>
              <a:ext cx="83952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100" spc="-1" strike="noStrike">
                  <a:solidFill>
                    <a:srgbClr val="ffffff"/>
                  </a:solidFill>
                  <a:latin typeface="Calibri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100" spc="-1" strike="noStrike">
                  <a:solidFill>
                    <a:srgbClr val="ffffff"/>
                  </a:solidFill>
                  <a:latin typeface="Calibri"/>
                </a:rPr>
                <a:t>Estratég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9" name="162 Conector recto de flecha"/>
          <p:cNvCxnSpPr>
            <a:endCxn id="110" idx="1"/>
          </p:cNvCxnSpPr>
          <p:nvPr/>
        </p:nvCxnSpPr>
        <p:spPr>
          <a:xfrm>
            <a:off x="7556040" y="1999800"/>
            <a:ext cx="8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163 Conector recto de flecha"/>
          <p:cNvCxnSpPr/>
          <p:nvPr/>
        </p:nvCxnSpPr>
        <p:spPr>
          <a:xfrm flipH="1">
            <a:off x="7135560" y="242892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151" name="172 Rectángulo"/>
          <p:cNvGrpSpPr/>
          <p:nvPr/>
        </p:nvGrpSpPr>
        <p:grpSpPr>
          <a:xfrm>
            <a:off x="8510760" y="3895560"/>
            <a:ext cx="547560" cy="1109880"/>
            <a:chOff x="8510760" y="3895560"/>
            <a:chExt cx="547560" cy="1109880"/>
          </a:xfrm>
        </p:grpSpPr>
        <p:pic>
          <p:nvPicPr>
            <p:cNvPr id="152" name="172 Rectángulo" descr=""/>
            <p:cNvPicPr/>
            <p:nvPr/>
          </p:nvPicPr>
          <p:blipFill>
            <a:blip r:embed="rId7"/>
            <a:stretch/>
          </p:blipFill>
          <p:spPr>
            <a:xfrm>
              <a:off x="8510760" y="3895560"/>
              <a:ext cx="5475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8572680" y="3929040"/>
              <a:ext cx="4284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173 Rectángulo"/>
          <p:cNvGrpSpPr/>
          <p:nvPr/>
        </p:nvGrpSpPr>
        <p:grpSpPr>
          <a:xfrm>
            <a:off x="8510760" y="2610000"/>
            <a:ext cx="547560" cy="961920"/>
            <a:chOff x="8510760" y="2610000"/>
            <a:chExt cx="547560" cy="961920"/>
          </a:xfrm>
        </p:grpSpPr>
        <p:pic>
          <p:nvPicPr>
            <p:cNvPr id="155" name="173 Rectángulo" descr=""/>
            <p:cNvPicPr/>
            <p:nvPr/>
          </p:nvPicPr>
          <p:blipFill>
            <a:blip r:embed="rId8"/>
            <a:stretch/>
          </p:blipFill>
          <p:spPr>
            <a:xfrm>
              <a:off x="8510760" y="2610000"/>
              <a:ext cx="54756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8572680" y="2643120"/>
              <a:ext cx="4284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174 Rectángulo"/>
          <p:cNvGrpSpPr/>
          <p:nvPr/>
        </p:nvGrpSpPr>
        <p:grpSpPr>
          <a:xfrm>
            <a:off x="8510760" y="1036800"/>
            <a:ext cx="547560" cy="1109520"/>
            <a:chOff x="8510760" y="1036800"/>
            <a:chExt cx="547560" cy="1109520"/>
          </a:xfrm>
        </p:grpSpPr>
        <p:pic>
          <p:nvPicPr>
            <p:cNvPr id="158" name="174 Rectángulo" descr=""/>
            <p:cNvPicPr/>
            <p:nvPr/>
          </p:nvPicPr>
          <p:blipFill>
            <a:blip r:embed="rId9"/>
            <a:stretch/>
          </p:blipFill>
          <p:spPr>
            <a:xfrm>
              <a:off x="8510760" y="1036800"/>
              <a:ext cx="54756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8572680" y="1071720"/>
              <a:ext cx="4284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0" name="177 Conector recto de flecha"/>
          <p:cNvCxnSpPr>
            <a:stCxn id="111" idx="2"/>
            <a:endCxn id="110" idx="0"/>
          </p:cNvCxnSpPr>
          <p:nvPr/>
        </p:nvCxnSpPr>
        <p:spPr>
          <a:xfrm flipH="1">
            <a:off x="8011440" y="1295280"/>
            <a:ext cx="1080" cy="27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61" name="192 Conector recto"/>
          <p:cNvSpPr/>
          <p:nvPr/>
        </p:nvSpPr>
        <p:spPr>
          <a:xfrm flipV="1">
            <a:off x="8379000" y="856800"/>
            <a:ext cx="1220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194 Conector recto de flecha"/>
          <p:cNvCxnSpPr/>
          <p:nvPr/>
        </p:nvCxnSpPr>
        <p:spPr>
          <a:xfrm flipH="1">
            <a:off x="8500680" y="857160"/>
            <a:ext cx="2160" cy="507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195 Conector recto de flecha"/>
          <p:cNvCxnSpPr/>
          <p:nvPr/>
        </p:nvCxnSpPr>
        <p:spPr>
          <a:xfrm>
            <a:off x="8357760" y="1999800"/>
            <a:ext cx="143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4" name="202 CuadroTexto"/>
          <p:cNvSpPr/>
          <p:nvPr/>
        </p:nvSpPr>
        <p:spPr>
          <a:xfrm rot="16200000">
            <a:off x="8334360" y="4313520"/>
            <a:ext cx="8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Efici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03 CuadroTexto"/>
          <p:cNvSpPr/>
          <p:nvPr/>
        </p:nvSpPr>
        <p:spPr>
          <a:xfrm rot="16200000">
            <a:off x="8402040" y="295848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Efic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04 CuadroTexto"/>
          <p:cNvSpPr/>
          <p:nvPr/>
        </p:nvSpPr>
        <p:spPr>
          <a:xfrm rot="16200000">
            <a:off x="8119440" y="146916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Efec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67 Conector recto de flecha"/>
          <p:cNvCxnSpPr/>
          <p:nvPr/>
        </p:nvCxnSpPr>
        <p:spPr>
          <a:xfrm flipV="1">
            <a:off x="3429000" y="2428200"/>
            <a:ext cx="2160" cy="26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8" name="69 Conector recto de flecha"/>
          <p:cNvCxnSpPr/>
          <p:nvPr/>
        </p:nvCxnSpPr>
        <p:spPr>
          <a:xfrm flipV="1">
            <a:off x="3429000" y="3571560"/>
            <a:ext cx="2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Control estratég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l control estratégico corresponde a un seguimiento y evaluación prospectiva ex ante de la pertinencia teórica del plan territorial de seguridad alimentaria y nutricional, como también a un seguimiento y evaluación retrospectiva ex post de la pertinencia real o empíric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llí la pertinencia es abordada en dos momento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l primer momento implica dar cuenta de manera ex ante, de la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situación deseada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y del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por qué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resulta pertinente respecto a la situación actual y brechas observadas en el estado alimentario y nutricional de territorios y poblaciones, bienes y servicios producidos y utilizados, gestión del conocimiento y recursos disponibles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Diagrama" descr=""/>
          <p:cNvPicPr/>
          <p:nvPr/>
        </p:nvPicPr>
        <p:blipFill>
          <a:blip r:embed="rId1"/>
          <a:stretch/>
        </p:blipFill>
        <p:spPr>
          <a:xfrm>
            <a:off x="706320" y="195120"/>
            <a:ext cx="7871040" cy="6199200"/>
          </a:xfrm>
          <a:prstGeom prst="rect">
            <a:avLst/>
          </a:prstGeom>
          <a:ln w="0">
            <a:noFill/>
          </a:ln>
        </p:spPr>
      </p:pic>
      <p:sp>
        <p:nvSpPr>
          <p:cNvPr id="44" name="2 CuadroTexto"/>
          <p:cNvSpPr/>
          <p:nvPr/>
        </p:nvSpPr>
        <p:spPr>
          <a:xfrm>
            <a:off x="3143160" y="2357280"/>
            <a:ext cx="293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f7f7f"/>
                </a:solidFill>
                <a:latin typeface="Calibri"/>
              </a:rPr>
              <a:t>CICLO DE GESTIÓN  </a:t>
            </a:r>
            <a:r>
              <a:rPr b="1" lang="es-ES" sz="2000" spc="-1" strike="noStrike">
                <a:solidFill>
                  <a:srgbClr val="92d050"/>
                </a:solidFill>
                <a:latin typeface="Calibri"/>
              </a:rPr>
              <a:t>INTEGRAL </a:t>
            </a:r>
            <a:r>
              <a:rPr b="1" lang="es-ES" sz="2000" spc="-1" strike="noStrike">
                <a:solidFill>
                  <a:srgbClr val="a6a6a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Calibri"/>
              </a:rPr>
              <a:t>DEL PLAN TERRITO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Calibri"/>
              </a:rPr>
              <a:t>DE SEGURIDAD  </a:t>
            </a:r>
            <a:r>
              <a:rPr b="1" lang="es-ES" sz="2000" spc="-1" strike="noStrike">
                <a:solidFill>
                  <a:srgbClr val="ffc000"/>
                </a:solidFill>
                <a:latin typeface="Calibri"/>
              </a:rPr>
              <a:t>ALIMENTARIA Y</a:t>
            </a:r>
            <a:r>
              <a:rPr b="1" lang="es-E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NUTRIC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5 CuadroTexto"/>
          <p:cNvSpPr/>
          <p:nvPr/>
        </p:nvSpPr>
        <p:spPr>
          <a:xfrm>
            <a:off x="5445000" y="5407200"/>
            <a:ext cx="2222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c000"/>
                </a:solidFill>
                <a:latin typeface="Calibri"/>
              </a:rPr>
              <a:t>PLAN TERRITORI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70c0"/>
                </a:solidFill>
                <a:latin typeface="Calibri"/>
              </a:rPr>
              <a:t>DE SEGURIDAD ALIMENTARIA 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0000"/>
                </a:solidFill>
                <a:latin typeface="Calibri"/>
              </a:rPr>
              <a:t>NUTRICIONAL  PTS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93 CuadroTexto"/>
          <p:cNvSpPr/>
          <p:nvPr/>
        </p:nvSpPr>
        <p:spPr>
          <a:xfrm>
            <a:off x="75240" y="6627960"/>
            <a:ext cx="184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Arial"/>
              </a:rPr>
              <a:t>Víctor  Hugo Céspedes Gómez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Control estratég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l segundo momento implica dar cuenta de manera ex post, de la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situación observada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al comparar los resultados, efectos e impactos realmente alcanzados frente a lo program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Igualmente, este momento requiere aportar evidencias de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por qué se lograron o no se lograron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los resultados, efectos e impactos esperados desde el plan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Control tác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l control táctico se efectúa sobre los componentes del plan territorial de seguridad alimentaria y nutricional y sus interrelacion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n consecuencia implica hacer un seguimiento y evaluación a la estructura o insumos, los procesos o transformaciones generadas, las salidas o productos, resultados, propósito, efectos, e impactos, de manera aislada e interrelacionad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l control táctico al abordar la interacción de la estructura, los procesos, los productos, resultados, efectos e impactos del plan territorial de seguridad alimentaria y nutricional, implica como mínimo el uso de tres tipos de mediciones: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la eficacia, la eficiencia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 la efectividad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46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Eficie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La eficiencia hace referencia al uso de los recursos, insumos, talentos, la estructura o los medios, del proceso territorial de seguridad alimentaria y nutricional, para el logro de productos, resultados, el propósito y fines del pl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Por lo anterior la eficiencia del plan territorial de seguridad alimentaria y nutricional puede ser definida como la cantidad y calidad de insumos y talentos, consumidos y empleados por el plan, por unidad de logro obteni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La eficiencia presenta dos manifestaciones: una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técnica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y otra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económica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; lo cual la hacen asimilable a los conceptos de productividad y rentabilidad económica y soci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Eficie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La eficiencia  económica se asocia fundamentalmente a rentabilidad económic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n consecuencia representa los efectos obtenidos por un plan, en relación con los recursos económicos invertidos, traducidos en términos monetar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l analizar la rentabilidad económica de una intervención en seguridad alimentaria y nutricional, existen por lo menos cuatro tipos de estudi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trata de los análisis de costo efectividad, costo beneficio, costo eficacia y costo utilidad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3" dur="2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Evaluación </a:t>
            </a:r>
            <a:br>
              <a:rPr sz="2800"/>
            </a:b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técnica, económica y social </a:t>
            </a:r>
            <a:br>
              <a:rPr sz="2800"/>
            </a:br>
            <a:r>
              <a:rPr b="1" lang="es-ES" sz="2800" spc="-1" strike="noStrike">
                <a:solidFill>
                  <a:srgbClr val="e46c0a"/>
                </a:solidFill>
                <a:latin typeface="Calibri"/>
              </a:rPr>
              <a:t>de un PTS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4 Rectángulo"/>
          <p:cNvGrpSpPr/>
          <p:nvPr/>
        </p:nvGrpSpPr>
        <p:grpSpPr>
          <a:xfrm>
            <a:off x="798480" y="1676520"/>
            <a:ext cx="1828800" cy="895320"/>
            <a:chOff x="798480" y="1676520"/>
            <a:chExt cx="1828800" cy="895320"/>
          </a:xfrm>
        </p:grpSpPr>
        <p:pic>
          <p:nvPicPr>
            <p:cNvPr id="186" name="4 Rectángulo" descr=""/>
            <p:cNvPicPr/>
            <p:nvPr/>
          </p:nvPicPr>
          <p:blipFill>
            <a:blip r:embed="rId1"/>
            <a:stretch/>
          </p:blipFill>
          <p:spPr>
            <a:xfrm>
              <a:off x="798480" y="1676520"/>
              <a:ext cx="18288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857160" y="1714680"/>
              <a:ext cx="17146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CONTROL DE ESTRUC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5 Rectángulo"/>
          <p:cNvGrpSpPr/>
          <p:nvPr/>
        </p:nvGrpSpPr>
        <p:grpSpPr>
          <a:xfrm>
            <a:off x="2724120" y="1676520"/>
            <a:ext cx="1828800" cy="895320"/>
            <a:chOff x="2724120" y="1676520"/>
            <a:chExt cx="1828800" cy="895320"/>
          </a:xfrm>
        </p:grpSpPr>
        <p:pic>
          <p:nvPicPr>
            <p:cNvPr id="189" name="5 Rectángulo" descr=""/>
            <p:cNvPicPr/>
            <p:nvPr/>
          </p:nvPicPr>
          <p:blipFill>
            <a:blip r:embed="rId2"/>
            <a:stretch/>
          </p:blipFill>
          <p:spPr>
            <a:xfrm>
              <a:off x="2724120" y="1676520"/>
              <a:ext cx="18288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86040" y="1714680"/>
              <a:ext cx="17146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CONTROL DEL PROC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6 Rectángulo"/>
          <p:cNvGrpSpPr/>
          <p:nvPr/>
        </p:nvGrpSpPr>
        <p:grpSpPr>
          <a:xfrm>
            <a:off x="4651200" y="1584360"/>
            <a:ext cx="1835280" cy="1012680"/>
            <a:chOff x="4651200" y="1584360"/>
            <a:chExt cx="1835280" cy="1012680"/>
          </a:xfrm>
        </p:grpSpPr>
        <p:pic>
          <p:nvPicPr>
            <p:cNvPr id="192" name="6 Rectángulo" descr=""/>
            <p:cNvPicPr/>
            <p:nvPr/>
          </p:nvPicPr>
          <p:blipFill>
            <a:blip r:embed="rId3"/>
            <a:stretch/>
          </p:blipFill>
          <p:spPr>
            <a:xfrm>
              <a:off x="4651200" y="1584360"/>
              <a:ext cx="183528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714920" y="1714680"/>
              <a:ext cx="17143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EVALUACION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7 Rectángulo"/>
          <p:cNvGrpSpPr/>
          <p:nvPr/>
        </p:nvGrpSpPr>
        <p:grpSpPr>
          <a:xfrm>
            <a:off x="6510240" y="1584360"/>
            <a:ext cx="1828800" cy="1012680"/>
            <a:chOff x="6510240" y="1584360"/>
            <a:chExt cx="1828800" cy="1012680"/>
          </a:xfrm>
        </p:grpSpPr>
        <p:pic>
          <p:nvPicPr>
            <p:cNvPr id="195" name="7 Rectángulo" descr=""/>
            <p:cNvPicPr/>
            <p:nvPr/>
          </p:nvPicPr>
          <p:blipFill>
            <a:blip r:embed="rId4"/>
            <a:stretch/>
          </p:blipFill>
          <p:spPr>
            <a:xfrm>
              <a:off x="6510240" y="1584360"/>
              <a:ext cx="182880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572160" y="1714680"/>
              <a:ext cx="17146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EVALUACION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IMPA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8 Rectángulo"/>
          <p:cNvGrpSpPr/>
          <p:nvPr/>
        </p:nvGrpSpPr>
        <p:grpSpPr>
          <a:xfrm>
            <a:off x="798480" y="2610000"/>
            <a:ext cx="1828800" cy="895320"/>
            <a:chOff x="798480" y="2610000"/>
            <a:chExt cx="1828800" cy="895320"/>
          </a:xfrm>
        </p:grpSpPr>
        <p:pic>
          <p:nvPicPr>
            <p:cNvPr id="198" name="8 Rectángulo" descr=""/>
            <p:cNvPicPr/>
            <p:nvPr/>
          </p:nvPicPr>
          <p:blipFill>
            <a:blip r:embed="rId5"/>
            <a:stretch/>
          </p:blipFill>
          <p:spPr>
            <a:xfrm>
              <a:off x="798480" y="2610000"/>
              <a:ext cx="18288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857160" y="2643120"/>
              <a:ext cx="17146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Calibri"/>
                </a:rPr>
                <a:t>Recursos intangibles (conocimiento)  y tangib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9 Rectángulo"/>
          <p:cNvGrpSpPr/>
          <p:nvPr/>
        </p:nvGrpSpPr>
        <p:grpSpPr>
          <a:xfrm>
            <a:off x="2724120" y="2610000"/>
            <a:ext cx="1828800" cy="895320"/>
            <a:chOff x="2724120" y="2610000"/>
            <a:chExt cx="1828800" cy="895320"/>
          </a:xfrm>
        </p:grpSpPr>
        <p:pic>
          <p:nvPicPr>
            <p:cNvPr id="201" name="9 Rectángulo" descr=""/>
            <p:cNvPicPr/>
            <p:nvPr/>
          </p:nvPicPr>
          <p:blipFill>
            <a:blip r:embed="rId6"/>
            <a:stretch/>
          </p:blipFill>
          <p:spPr>
            <a:xfrm>
              <a:off x="2724120" y="2610000"/>
              <a:ext cx="18288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86040" y="2643120"/>
              <a:ext cx="17146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Calibri"/>
                </a:rPr>
                <a:t>Productos, servicios y cuidad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10 Rectángulo"/>
          <p:cNvGrpSpPr/>
          <p:nvPr/>
        </p:nvGrpSpPr>
        <p:grpSpPr>
          <a:xfrm>
            <a:off x="4651200" y="2610000"/>
            <a:ext cx="1835280" cy="895320"/>
            <a:chOff x="4651200" y="2610000"/>
            <a:chExt cx="1835280" cy="895320"/>
          </a:xfrm>
        </p:grpSpPr>
        <p:pic>
          <p:nvPicPr>
            <p:cNvPr id="204" name="10 Rectángulo" descr=""/>
            <p:cNvPicPr/>
            <p:nvPr/>
          </p:nvPicPr>
          <p:blipFill>
            <a:blip r:embed="rId7"/>
            <a:stretch/>
          </p:blipFill>
          <p:spPr>
            <a:xfrm>
              <a:off x="4651200" y="2610000"/>
              <a:ext cx="18352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714920" y="2643120"/>
              <a:ext cx="17143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Calibri"/>
                </a:rPr>
                <a:t>Objetivos asociados al estado alimentario  y nutriciona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11 Rectángulo"/>
          <p:cNvGrpSpPr/>
          <p:nvPr/>
        </p:nvGrpSpPr>
        <p:grpSpPr>
          <a:xfrm>
            <a:off x="6510240" y="2610000"/>
            <a:ext cx="1828800" cy="895320"/>
            <a:chOff x="6510240" y="2610000"/>
            <a:chExt cx="1828800" cy="895320"/>
          </a:xfrm>
        </p:grpSpPr>
        <p:pic>
          <p:nvPicPr>
            <p:cNvPr id="207" name="11 Rectángulo" descr=""/>
            <p:cNvPicPr/>
            <p:nvPr/>
          </p:nvPicPr>
          <p:blipFill>
            <a:blip r:embed="rId8"/>
            <a:stretch/>
          </p:blipFill>
          <p:spPr>
            <a:xfrm>
              <a:off x="6510240" y="2610000"/>
              <a:ext cx="18288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572160" y="2643120"/>
              <a:ext cx="17146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Calibri"/>
                </a:rPr>
                <a:t>Efectos e impactos sobre el estado alimentario y nutricional de territorios  y poblacio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12 Rectángulo"/>
          <p:cNvSpPr/>
          <p:nvPr/>
        </p:nvSpPr>
        <p:spPr>
          <a:xfrm>
            <a:off x="1214280" y="3786120"/>
            <a:ext cx="2643480" cy="85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ICIENCIA TE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 PRODU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3 Rectángulo"/>
          <p:cNvSpPr/>
          <p:nvPr/>
        </p:nvSpPr>
        <p:spPr>
          <a:xfrm>
            <a:off x="5357880" y="3786120"/>
            <a:ext cx="235728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FICIENCIA Y RENTABILIDAD ECONOMICA Y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4 Rectángulo"/>
          <p:cNvSpPr/>
          <p:nvPr/>
        </p:nvSpPr>
        <p:spPr>
          <a:xfrm>
            <a:off x="5643720" y="4786200"/>
            <a:ext cx="17143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á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7 Rectángulo"/>
          <p:cNvSpPr/>
          <p:nvPr/>
        </p:nvSpPr>
        <p:spPr>
          <a:xfrm>
            <a:off x="5857920" y="5572080"/>
            <a:ext cx="12142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sto benef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9 Rectángulo"/>
          <p:cNvSpPr/>
          <p:nvPr/>
        </p:nvSpPr>
        <p:spPr>
          <a:xfrm>
            <a:off x="7286760" y="5572080"/>
            <a:ext cx="12142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sto ut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0 Rectángulo"/>
          <p:cNvSpPr/>
          <p:nvPr/>
        </p:nvSpPr>
        <p:spPr>
          <a:xfrm>
            <a:off x="4429080" y="5572080"/>
            <a:ext cx="12146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sto efica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26 Conector curvado"/>
          <p:cNvCxnSpPr>
            <a:stCxn id="211" idx="2"/>
            <a:endCxn id="214" idx="0"/>
          </p:cNvCxnSpPr>
          <p:nvPr/>
        </p:nvCxnSpPr>
        <p:spPr>
          <a:xfrm rot="5400000">
            <a:off x="5554080" y="4626000"/>
            <a:ext cx="429120" cy="1464480"/>
          </a:xfrm>
          <a:prstGeom prst="curvedConnector5">
            <a:avLst>
              <a:gd name="adj1" fmla="val 49958"/>
              <a:gd name="adj2" fmla="val 49987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28 Conector curvado"/>
          <p:cNvCxnSpPr>
            <a:stCxn id="211" idx="2"/>
            <a:endCxn id="212" idx="0"/>
          </p:cNvCxnSpPr>
          <p:nvPr/>
        </p:nvCxnSpPr>
        <p:spPr>
          <a:xfrm rot="5400000">
            <a:off x="6268320" y="5340240"/>
            <a:ext cx="429120" cy="3564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30 Forma"/>
          <p:cNvCxnSpPr>
            <a:stCxn id="211" idx="2"/>
            <a:endCxn id="213" idx="0"/>
          </p:cNvCxnSpPr>
          <p:nvPr/>
        </p:nvCxnSpPr>
        <p:spPr>
          <a:xfrm flipH="1" rot="16200000">
            <a:off x="6981840" y="4661640"/>
            <a:ext cx="429120" cy="139284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8" name="49 CuadroTexto"/>
          <p:cNvSpPr/>
          <p:nvPr/>
        </p:nvSpPr>
        <p:spPr>
          <a:xfrm>
            <a:off x="571680" y="6396120"/>
            <a:ext cx="800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uente: </a:t>
            </a:r>
            <a:r>
              <a:rPr b="0" lang="es-CO" sz="900" spc="-1" strike="noStrike">
                <a:solidFill>
                  <a:srgbClr val="000000"/>
                </a:solidFill>
                <a:latin typeface="Arial"/>
              </a:rPr>
              <a:t>PINEAULT, Raynald; DAVELUY, Carole 1995. Adaptación Céspedes 2009</a:t>
            </a: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22 Conector curvado"/>
          <p:cNvCxnSpPr>
            <a:endCxn id="209" idx="0"/>
          </p:cNvCxnSpPr>
          <p:nvPr/>
        </p:nvCxnSpPr>
        <p:spPr>
          <a:xfrm flipH="1" rot="16200000">
            <a:off x="1947240" y="3196080"/>
            <a:ext cx="357840" cy="822960"/>
          </a:xfrm>
          <a:prstGeom prst="curvedConnector5">
            <a:avLst>
              <a:gd name="adj1" fmla="val 49949"/>
              <a:gd name="adj2" fmla="val 49978"/>
              <a:gd name="adj3" fmla="val 49949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24 Conector curvado"/>
          <p:cNvCxnSpPr>
            <a:endCxn id="209" idx="0"/>
          </p:cNvCxnSpPr>
          <p:nvPr/>
        </p:nvCxnSpPr>
        <p:spPr>
          <a:xfrm rot="5400000">
            <a:off x="2910600" y="3054240"/>
            <a:ext cx="357840" cy="1107000"/>
          </a:xfrm>
          <a:prstGeom prst="curvedConnector5">
            <a:avLst>
              <a:gd name="adj1" fmla="val 49949"/>
              <a:gd name="adj2" fmla="val 50000"/>
              <a:gd name="adj3" fmla="val 49949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27 Conector curvado"/>
          <p:cNvCxnSpPr>
            <a:endCxn id="210" idx="0"/>
          </p:cNvCxnSpPr>
          <p:nvPr/>
        </p:nvCxnSpPr>
        <p:spPr>
          <a:xfrm flipH="1" rot="16200000">
            <a:off x="5874480" y="3125520"/>
            <a:ext cx="357840" cy="964440"/>
          </a:xfrm>
          <a:prstGeom prst="curvedConnector5">
            <a:avLst>
              <a:gd name="adj1" fmla="val 49949"/>
              <a:gd name="adj2" fmla="val 50000"/>
              <a:gd name="adj3" fmla="val 49949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31 Conector curvado"/>
          <p:cNvCxnSpPr>
            <a:endCxn id="210" idx="0"/>
          </p:cNvCxnSpPr>
          <p:nvPr/>
        </p:nvCxnSpPr>
        <p:spPr>
          <a:xfrm rot="5400000">
            <a:off x="6804000" y="3161160"/>
            <a:ext cx="357840" cy="893160"/>
          </a:xfrm>
          <a:prstGeom prst="curvedConnector5">
            <a:avLst>
              <a:gd name="adj1" fmla="val 49949"/>
              <a:gd name="adj2" fmla="val 50000"/>
              <a:gd name="adj3" fmla="val 49949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23" name="Picture 2" descr=""/>
          <p:cNvPicPr/>
          <p:nvPr/>
        </p:nvPicPr>
        <p:blipFill>
          <a:blip r:embed="rId9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Efica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La eficacia corresponde a un seguimiento y evaluación al grado de éxito o fracaso de un plan territorial de seguridad alimentaria y nutricional, durante cada uno de sus años de ejecución y al final del mism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trata de una relación entre las metas de impacto, efecto, propósito, resultado, producto y subproducto programadas y las metas efectivamente lograd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Efe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La efectividad es un análisis de consecuencias que bien puede efectuarse sobre los objetivos específicos obtenidos por el plan en relación con los objetivos preestablecidos, o bien sobre los efectos e impactos y resultados del plan, en el estado alimentario y nutricional de un territorio, una población y su calidad de vi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uando el análisis recae sobre el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propósito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resultados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del plan, esto corresponde a un control de nivel táctico; en tanto que el análisis que se hace sobre las consecuencias de mediano plazo (efectos) y de largo plazo (impactos), corresponde a un control de nivel estratégico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Efe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unque existe una estrecha relación entre los conceptos eficacia y efectividad, significan cosas difere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Un plan territorial de seguridad alimentaria y nutricional, puede ser altamente eficaz, al cumplir el 100% de las metas de producto programadas para cada vigencia presupuestal; pero poco efectivo en su aporte al logro de sus metas de resultado en el corto, mediano y largo plazo; es decir en el logro del propósito, efectos e impactos esperados.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8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Control oper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l control operativo se ejerce sobre la ejecución e implementación del plan territorial de seguridad alimentaria y nutricional y en este sentido, representa una prolongación del control táctico; en tanto que se trata de movilizar recursos y talentos e implementar procesos, procedimientos, actividades y tareas; para garantizar la generación de subproductos y product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5.2. Diseño de un sistema de seguimiento y evaluación del plan territorial de seguridad alimentaria y nutricion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Diagrama" descr=""/>
          <p:cNvPicPr/>
          <p:nvPr/>
        </p:nvPicPr>
        <p:blipFill>
          <a:blip r:embed="rId1"/>
          <a:stretch/>
        </p:blipFill>
        <p:spPr>
          <a:xfrm>
            <a:off x="706320" y="195120"/>
            <a:ext cx="7871040" cy="6199200"/>
          </a:xfrm>
          <a:prstGeom prst="rect">
            <a:avLst/>
          </a:prstGeom>
          <a:ln w="0">
            <a:noFill/>
          </a:ln>
        </p:spPr>
      </p:pic>
      <p:sp>
        <p:nvSpPr>
          <p:cNvPr id="48" name="2 CuadroTexto"/>
          <p:cNvSpPr/>
          <p:nvPr/>
        </p:nvSpPr>
        <p:spPr>
          <a:xfrm>
            <a:off x="3214800" y="2357280"/>
            <a:ext cx="293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f7f7f"/>
                </a:solidFill>
                <a:latin typeface="Calibri"/>
              </a:rPr>
              <a:t>CICLO DE GESTIÓN  </a:t>
            </a:r>
            <a:r>
              <a:rPr b="1" lang="es-ES" sz="2000" spc="-1" strike="noStrike">
                <a:solidFill>
                  <a:srgbClr val="92d050"/>
                </a:solidFill>
                <a:latin typeface="Calibri"/>
              </a:rPr>
              <a:t>INTEGRAL </a:t>
            </a:r>
            <a:r>
              <a:rPr b="1" lang="es-ES" sz="2000" spc="-1" strike="noStrike">
                <a:solidFill>
                  <a:srgbClr val="a6a6a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Calibri"/>
              </a:rPr>
              <a:t>DEL PLAN TERRITO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Calibri"/>
              </a:rPr>
              <a:t>DE SEGURIDAD  </a:t>
            </a:r>
            <a:r>
              <a:rPr b="1" lang="es-ES" sz="2000" spc="-1" strike="noStrike">
                <a:solidFill>
                  <a:srgbClr val="ffc000"/>
                </a:solidFill>
                <a:latin typeface="Calibri"/>
              </a:rPr>
              <a:t>ALIMENTARIA Y</a:t>
            </a:r>
            <a:r>
              <a:rPr b="1" lang="es-E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NUTRIC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5 CuadroTexto"/>
          <p:cNvSpPr/>
          <p:nvPr/>
        </p:nvSpPr>
        <p:spPr>
          <a:xfrm>
            <a:off x="5445000" y="5407200"/>
            <a:ext cx="2222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c000"/>
                </a:solidFill>
                <a:latin typeface="Calibri"/>
              </a:rPr>
              <a:t>PLAN TERRITORI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70c0"/>
                </a:solidFill>
                <a:latin typeface="Calibri"/>
              </a:rPr>
              <a:t>DE SEGURIDAD ALIMENTARIA 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0000"/>
                </a:solidFill>
                <a:latin typeface="Calibri"/>
              </a:rPr>
              <a:t>NUTRICIONAL  PTS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93 CuadroTexto"/>
          <p:cNvSpPr/>
          <p:nvPr/>
        </p:nvSpPr>
        <p:spPr>
          <a:xfrm>
            <a:off x="75240" y="6627960"/>
            <a:ext cx="184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Arial"/>
              </a:rPr>
              <a:t>Víctor  Hugo Céspedes Gómez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Diseño de un sistema de Sy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anteada la diferenciación, complementariedad e integración del seguimiento y la evaluación en los procesos de control estratégico, táctico y operativo de un plan territorial de seguridad alimentaria y nutricional; a continuación, haremos referencia a cómo diseñar e implementar un sistema de seguimiento y evaluación, tomando como insumos, los contenidos e instrumentos presentados hasta el momen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Diseño de un sistema de Sy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Jody Zall Kusek - Ray C. Rist (2005) sugieren diez pasos para el diseño de un sistema de seguimiento y evaluación basado en resulta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9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CuadroTexto"/>
          <p:cNvSpPr/>
          <p:nvPr/>
        </p:nvSpPr>
        <p:spPr>
          <a:xfrm>
            <a:off x="857160" y="59342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onotype Corsiva"/>
              </a:rPr>
              <a:t>Fuente:  Jody Zall Kusek  - Ray C. Rist (2005). Diez pasos hacia un sistema de seguimiento y evaluación basado en resultados. Banco Mundial en coedición con Mayol Ediciones S. A. Bogotá, Colombi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835200" y="974880"/>
            <a:ext cx="7407000" cy="4797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Diseño de un sistema de Sy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 tomamos esta propuesta de diez pasos para el diseño e implementación de un sistema de seguimiento y evaluación al plan territorial de seguridad alimentaria y nutricional, vemos que directamente los cinco primeros pasos ya fueron abordados en los cuatro primeros capítulos; al tiempo que se han generado buena parte de las condiciones para abordar en este capítulo, los seis pasos resta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Diseño de un sistema de Sy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primer capítulo se ocupó del alistamiento para el diseño, formulación, presentación, aprobación, ejecución, seguimiento y evaluación del plan territorial de seguridad alimentaria y nutricional; haciendo énfasis en concientizar a la clase política, sobre la importancia, oportunidad y necesidad, de invertir en logros (resultados, efectos, impactos)   más que en simples acciones sin un referente estratégic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Diseño de un sistema de Sy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segundo capítulo, ha vinculado el uso de indicadores como medios fundamentales para identificar, priorizar y analizar potencialidades y limitaciones.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Diseño de un sistema de Sy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tercer capítulo, ha planteado estándares que deben ser observados para un control estratégico del diseño y formulación del pl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sí mismo ha permitido definir y elegir en un árbol de objetivos, una estructura analítica del plan, una lógica vertical y horizontal de intervención con sus correspondientes subproductos, productos, resultados, propósito, efectos e impactos esperados, para monitorearlos y evaluarl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lí también, se ha planteado un instrumento para la identificación de indicadores, así mismo se han definido unos datos básicos sobre cada uno de los indicadores selecciona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Diseño de un sistema de Sy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gualmente el capítulo tres ha presentado el plan territorial de seguridad alimentaria y nutricional en una matriz de marco lógico ajustada, que permite la síntesis, la socialización, el seguimiento y el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sí mismo al hacer referencia a la estructura básica del documento que contiene el plan, se ha sugerido que el documento técnico de soporte, disponga de un componente de seguimiento y evalu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cuarto capítulo, al presentar el plan indicativo, el plan operativo y el plan de acción; no solo ha hecho referencia a instrumentos para la ejecución del plan, sino además para su seguimiento y evaluación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6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Diseño de un sistema de Sy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critos los aportes de los capítulos anteriores al diseño de un sistema de seguimiento y evaluación del plan territorial de seguridad alimentaria y nutricional, y una vez ubicados en el paso cinco de la propuesta de Jody Zall Kusek - Ray C. Rist (2005); en lo que resta de este capítulo, brindaremos dos nuevos instrumentos para abordar el paso seis al tiempo que invitamos al lector a consultar los autores referenciados, para documentar de manera detallada todos los diez pasos.  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5.2.1 Control estratégico del diseño, formulación y aprobación del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onotype Corsiva"/>
                <a:ea typeface="Gautami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Monotype Corsiva"/>
                <a:ea typeface="Gautami"/>
              </a:rPr>
              <a:t>La medición es el primer paso para el control y la mejora. Si no se puede medir algo, no se puede entender. Si no se entiende, no se puede controlar. Si no se puede controlar, no se puede mejorar”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onotype Corsiva"/>
                <a:ea typeface="Gautam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3103200" y="6000840"/>
            <a:ext cx="32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onotype Corsiva"/>
              </a:rPr>
              <a:t>Fuente:  H. James Harr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Control estratégico del diseño, formulación  y aprobación del pl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el capítulo tres, se han planteado nueve estándares que deben ser observados para un control estratégico del diseño y formulación del plan para garantizar su ca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os estándares, los instrumentos presentados en este capítulo y en el Aplicativo, actúan como un instrumento integrado y adicional para emprender el primer momento del control estratégico descrito en este capítul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1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6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Análisis de insumos document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3" name="4 Imagen" descr=""/>
          <p:cNvPicPr/>
          <p:nvPr/>
        </p:nvPicPr>
        <p:blipFill>
          <a:blip r:embed="rId2"/>
          <a:stretch/>
        </p:blipFill>
        <p:spPr>
          <a:xfrm>
            <a:off x="1357200" y="285840"/>
            <a:ext cx="67867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rrespondencia programática y de polí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7" name="4 Imagen" descr=""/>
          <p:cNvPicPr/>
          <p:nvPr/>
        </p:nvPicPr>
        <p:blipFill>
          <a:blip r:embed="rId2"/>
          <a:stretch/>
        </p:blipFill>
        <p:spPr>
          <a:xfrm>
            <a:off x="324000" y="657360"/>
            <a:ext cx="849600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Visión, misión y princip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1" name="4 Imagen" descr=""/>
          <p:cNvPicPr/>
          <p:nvPr/>
        </p:nvPicPr>
        <p:blipFill>
          <a:blip r:embed="rId2"/>
          <a:stretch/>
        </p:blipFill>
        <p:spPr>
          <a:xfrm>
            <a:off x="276120" y="681120"/>
            <a:ext cx="859176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Pertinencia, coherencia interna y viabilidad técnico - leg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5" name="4 Imagen" descr=""/>
          <p:cNvPicPr/>
          <p:nvPr/>
        </p:nvPicPr>
        <p:blipFill>
          <a:blip r:embed="rId2"/>
          <a:stretch/>
        </p:blipFill>
        <p:spPr>
          <a:xfrm>
            <a:off x="281160" y="723960"/>
            <a:ext cx="8581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7" name="4 Imagen" descr=""/>
          <p:cNvPicPr/>
          <p:nvPr/>
        </p:nvPicPr>
        <p:blipFill>
          <a:blip r:embed="rId2"/>
          <a:stretch/>
        </p:blipFill>
        <p:spPr>
          <a:xfrm>
            <a:off x="307800" y="885960"/>
            <a:ext cx="852840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“ </a:t>
            </a:r>
            <a:r>
              <a:rPr b="0" lang="es-ES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Si no puede medir resultados, no puede distinguir entre el éxito y el fracas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Si no puede ver el éxito, no lo puede recompens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Si no puede recompensar el éxito, quizás esté premiando el fraca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Si no puede ver el éxito, no puede aprender de é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Si no puede reconocer el fracaso, no lo puede correg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onotype Corsiva"/>
                <a:ea typeface="Gautami"/>
              </a:rPr>
              <a:t>Si puede demostrar resultados, puede ganar el respaldo públ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Monotype Corsiva"/>
                <a:ea typeface="Gautam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4 CuadroTexto"/>
          <p:cNvSpPr/>
          <p:nvPr/>
        </p:nvSpPr>
        <p:spPr>
          <a:xfrm>
            <a:off x="3017160" y="6000840"/>
            <a:ext cx="37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onotype Corsiva"/>
              </a:rPr>
              <a:t>Fuente:  Osborne &amp; Gaebler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9" name="4 Imagen" descr=""/>
          <p:cNvPicPr/>
          <p:nvPr/>
        </p:nvPicPr>
        <p:blipFill>
          <a:blip r:embed="rId2"/>
          <a:stretch/>
        </p:blipFill>
        <p:spPr>
          <a:xfrm>
            <a:off x="314280" y="847800"/>
            <a:ext cx="85154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1" name="4 Imagen" descr=""/>
          <p:cNvPicPr/>
          <p:nvPr/>
        </p:nvPicPr>
        <p:blipFill>
          <a:blip r:embed="rId2"/>
          <a:stretch/>
        </p:blipFill>
        <p:spPr>
          <a:xfrm>
            <a:off x="287280" y="1138320"/>
            <a:ext cx="85694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3" name="4 Imagen" descr=""/>
          <p:cNvPicPr/>
          <p:nvPr/>
        </p:nvPicPr>
        <p:blipFill>
          <a:blip r:embed="rId2"/>
          <a:stretch/>
        </p:blipFill>
        <p:spPr>
          <a:xfrm>
            <a:off x="287280" y="709560"/>
            <a:ext cx="856944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Participación, concertación y viabilidad polí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7" name="4 Imagen" descr=""/>
          <p:cNvPicPr/>
          <p:nvPr/>
        </p:nvPicPr>
        <p:blipFill>
          <a:blip r:embed="rId2"/>
          <a:stretch/>
        </p:blipFill>
        <p:spPr>
          <a:xfrm>
            <a:off x="290520" y="685800"/>
            <a:ext cx="8562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Articulación y armoniz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01" name="4 Imagen" descr=""/>
          <p:cNvPicPr/>
          <p:nvPr/>
        </p:nvPicPr>
        <p:blipFill>
          <a:blip r:embed="rId2"/>
          <a:stretch/>
        </p:blipFill>
        <p:spPr>
          <a:xfrm>
            <a:off x="333360" y="1295280"/>
            <a:ext cx="8477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Evaluabil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05" name="4 Imagen" descr=""/>
          <p:cNvPicPr/>
          <p:nvPr/>
        </p:nvPicPr>
        <p:blipFill>
          <a:blip r:embed="rId2"/>
          <a:stretch/>
        </p:blipFill>
        <p:spPr>
          <a:xfrm>
            <a:off x="309600" y="687240"/>
            <a:ext cx="8524800" cy="54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Viabilidad económ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Objetivos de aprendiza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09" name="4 Imagen" descr=""/>
          <p:cNvPicPr/>
          <p:nvPr/>
        </p:nvPicPr>
        <p:blipFill>
          <a:blip r:embed="rId2"/>
          <a:stretch/>
        </p:blipFill>
        <p:spPr>
          <a:xfrm>
            <a:off x="309600" y="714240"/>
            <a:ext cx="85248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Integraciones y alianz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13" name="4 Imagen" descr=""/>
          <p:cNvPicPr/>
          <p:nvPr/>
        </p:nvPicPr>
        <p:blipFill>
          <a:blip r:embed="rId2"/>
          <a:stretch/>
        </p:blipFill>
        <p:spPr>
          <a:xfrm>
            <a:off x="384120" y="900000"/>
            <a:ext cx="837576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Asistencia técn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17" name="4 Imagen" descr=""/>
          <p:cNvPicPr/>
          <p:nvPr/>
        </p:nvPicPr>
        <p:blipFill>
          <a:blip r:embed="rId2"/>
          <a:stretch/>
        </p:blipFill>
        <p:spPr>
          <a:xfrm>
            <a:off x="316080" y="843120"/>
            <a:ext cx="85118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Matriz general de  consolidación de evaluación de estánda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1" name="4 Imagen" descr=""/>
          <p:cNvPicPr/>
          <p:nvPr/>
        </p:nvPicPr>
        <p:blipFill>
          <a:blip r:embed="rId2"/>
          <a:stretch/>
        </p:blipFill>
        <p:spPr>
          <a:xfrm>
            <a:off x="1623960" y="304920"/>
            <a:ext cx="58960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3" name="4 Imagen" descr=""/>
          <p:cNvPicPr/>
          <p:nvPr/>
        </p:nvPicPr>
        <p:blipFill>
          <a:blip r:embed="rId2"/>
          <a:stretch/>
        </p:blipFill>
        <p:spPr>
          <a:xfrm>
            <a:off x="857160" y="928800"/>
            <a:ext cx="77868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5.2.2 Seguimiento y evaluación del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SyE del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terminar este capítulo y cerrar el ciclo propuesto desde el primer capítulo, a partir de la matriz de marco lógico ajustada del plan territorial de seguridad alimentaria y nutricional, se presenta un instrumento que permite ajustar las metas físicas y financieras programadas de manera indicativa, a los presupuestos efectivamente asignados en cada vigenc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gualmente, permite hacer una programación de metas físicas y de ejecución presupuestal por trimestres; y registrar allí los valores observados en los procesos de seguimiento y evaluación al pl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ser cargados los registros correspondientes, se genera un tablero de indicadores de ejecución del plan.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9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Objetivo genera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r competencias conceptuales, técnicas, informáticas y prácticas, para la incorporación del seguimiento y la evaluación dentro del ciclo de gestión integral del plan territorial de seguridad alimentaria y nutricional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SyE de Fines y propósi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715240" cy="5779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142920" y="857160"/>
            <a:ext cx="8736120" cy="5643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SyE de Result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286840" cy="5488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8412120" cy="5286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SyE de Produc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1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7858080" cy="57657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467920" cy="53578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SyE Actividades estratég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Objetivos específico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ocer los tipos de control que se puede ejercer sobre un plan territorial de seguridad alimentaria y nutricion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finir, diferenciar e integrar, los conceptos y acciones de control, seguimiento y evaluación de un plan territorial de seguridad alimentaria y nutrici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r los pasos requeridos para el diseño de un sistema de seguimiento y evaluació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1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809200" cy="5357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6 Grupo"/>
          <p:cNvGrpSpPr/>
          <p:nvPr/>
        </p:nvGrpSpPr>
        <p:grpSpPr>
          <a:xfrm>
            <a:off x="642960" y="214200"/>
            <a:ext cx="7858080" cy="6166080"/>
            <a:chOff x="642960" y="214200"/>
            <a:chExt cx="7858080" cy="6166080"/>
          </a:xfrm>
        </p:grpSpPr>
        <p:pic>
          <p:nvPicPr>
            <p:cNvPr id="352" name="1 Diagrama" descr=""/>
            <p:cNvPicPr/>
            <p:nvPr/>
          </p:nvPicPr>
          <p:blipFill>
            <a:blip r:embed="rId1"/>
            <a:stretch/>
          </p:blipFill>
          <p:spPr>
            <a:xfrm>
              <a:off x="642960" y="214200"/>
              <a:ext cx="7858080" cy="616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2 CuadroTexto"/>
            <p:cNvSpPr/>
            <p:nvPr/>
          </p:nvSpPr>
          <p:spPr>
            <a:xfrm>
              <a:off x="3146400" y="2364840"/>
              <a:ext cx="29300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7f7f7f"/>
                  </a:solidFill>
                  <a:latin typeface="Calibri"/>
                </a:rPr>
                <a:t>CICLO DE GESTIÓN  </a:t>
              </a:r>
              <a:r>
                <a:rPr b="1" lang="es-ES" sz="2000" spc="-1" strike="noStrike">
                  <a:solidFill>
                    <a:srgbClr val="92d050"/>
                  </a:solidFill>
                  <a:latin typeface="Calibri"/>
                </a:rPr>
                <a:t>INTEGRAL </a:t>
              </a:r>
              <a:r>
                <a:rPr b="1" lang="es-ES" sz="2000" spc="-1" strike="noStrike">
                  <a:solidFill>
                    <a:srgbClr val="a6a6a6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7030a0"/>
                  </a:solidFill>
                  <a:latin typeface="Calibri"/>
                </a:rPr>
                <a:t>DEL PLAN TERRITORI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70c0"/>
                  </a:solidFill>
                  <a:latin typeface="Calibri"/>
                </a:rPr>
                <a:t>DE SEGURIDAD  </a:t>
              </a:r>
              <a:r>
                <a:rPr b="1" lang="es-ES" sz="2000" spc="-1" strike="noStrike">
                  <a:solidFill>
                    <a:srgbClr val="ffc000"/>
                  </a:solidFill>
                  <a:latin typeface="Calibri"/>
                </a:rPr>
                <a:t>ALIMENTARIA Y</a:t>
              </a:r>
              <a:r>
                <a:rPr b="1" lang="es-ES" sz="2000" spc="-1" strike="noStrike">
                  <a:solidFill>
                    <a:srgbClr val="0070c0"/>
                  </a:solidFill>
                  <a:latin typeface="Calibri"/>
                </a:rPr>
                <a:t> </a:t>
              </a: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NUTRICION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5 CuadroTexto"/>
            <p:cNvSpPr/>
            <p:nvPr/>
          </p:nvSpPr>
          <p:spPr>
            <a:xfrm>
              <a:off x="5371920" y="5398200"/>
              <a:ext cx="22172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c000"/>
                  </a:solidFill>
                  <a:latin typeface="Calibri"/>
                </a:rPr>
                <a:t>PLAN TERRITORI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70c0"/>
                  </a:solidFill>
                  <a:latin typeface="Calibri"/>
                </a:rPr>
                <a:t>DE SEGURIDAD ALIMENTARIA Y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0000"/>
                  </a:solidFill>
                  <a:latin typeface="Calibri"/>
                </a:rPr>
                <a:t>NUTRICIONAL  PTSA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193 CuadroTexto"/>
          <p:cNvSpPr/>
          <p:nvPr/>
        </p:nvSpPr>
        <p:spPr>
          <a:xfrm>
            <a:off x="75240" y="6627960"/>
            <a:ext cx="184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Arial"/>
              </a:rPr>
              <a:t>Víctor  Hugo Céspedes Gómez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1 Diagrama" descr=""/>
          <p:cNvPicPr/>
          <p:nvPr/>
        </p:nvPicPr>
        <p:blipFill>
          <a:blip r:embed="rId1"/>
          <a:stretch/>
        </p:blipFill>
        <p:spPr>
          <a:xfrm>
            <a:off x="706320" y="195120"/>
            <a:ext cx="7871040" cy="6199200"/>
          </a:xfrm>
          <a:prstGeom prst="rect">
            <a:avLst/>
          </a:prstGeom>
          <a:ln w="0">
            <a:noFill/>
          </a:ln>
        </p:spPr>
      </p:pic>
      <p:sp>
        <p:nvSpPr>
          <p:cNvPr id="357" name="2 CuadroTexto"/>
          <p:cNvSpPr/>
          <p:nvPr/>
        </p:nvSpPr>
        <p:spPr>
          <a:xfrm>
            <a:off x="3214800" y="2214720"/>
            <a:ext cx="293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f7f7f"/>
                </a:solidFill>
                <a:latin typeface="Calibri"/>
              </a:rPr>
              <a:t>CICLO DE GESTIÓN  </a:t>
            </a:r>
            <a:r>
              <a:rPr b="1" lang="es-ES" sz="2000" spc="-1" strike="noStrike">
                <a:solidFill>
                  <a:srgbClr val="92d050"/>
                </a:solidFill>
                <a:latin typeface="Calibri"/>
              </a:rPr>
              <a:t>INTEGRAL </a:t>
            </a:r>
            <a:r>
              <a:rPr b="1" lang="es-ES" sz="2000" spc="-1" strike="noStrike">
                <a:solidFill>
                  <a:srgbClr val="a6a6a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Calibri"/>
              </a:rPr>
              <a:t>DEL PLAN TERRITO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Calibri"/>
              </a:rPr>
              <a:t>DE SEGURIDAD  </a:t>
            </a:r>
            <a:r>
              <a:rPr b="1" lang="es-ES" sz="2000" spc="-1" strike="noStrike">
                <a:solidFill>
                  <a:srgbClr val="ffc000"/>
                </a:solidFill>
                <a:latin typeface="Calibri"/>
              </a:rPr>
              <a:t>ALIMENTARIA Y</a:t>
            </a:r>
            <a:r>
              <a:rPr b="1" lang="es-E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NUTRIC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5 CuadroTexto"/>
          <p:cNvSpPr/>
          <p:nvPr/>
        </p:nvSpPr>
        <p:spPr>
          <a:xfrm>
            <a:off x="5516640" y="5407200"/>
            <a:ext cx="2222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c000"/>
                </a:solidFill>
                <a:latin typeface="Calibri"/>
              </a:rPr>
              <a:t>PLAN TERRITORI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70c0"/>
                </a:solidFill>
                <a:latin typeface="Calibri"/>
              </a:rPr>
              <a:t>DE SEGURIDAD ALIMENTARIA 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0000"/>
                </a:solidFill>
                <a:latin typeface="Calibri"/>
              </a:rPr>
              <a:t>NUTRICIONAL  PTS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193 CuadroTexto"/>
          <p:cNvSpPr/>
          <p:nvPr/>
        </p:nvSpPr>
        <p:spPr>
          <a:xfrm>
            <a:off x="75240" y="6627960"/>
            <a:ext cx="184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" spc="-1" strike="noStrike">
                <a:solidFill>
                  <a:srgbClr val="000000"/>
                </a:solidFill>
                <a:latin typeface="Arial"/>
              </a:rPr>
              <a:t>Víctor  Hugo Céspedes Gómez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6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s-ES" sz="6000" spc="-1" strike="noStrike">
                <a:solidFill>
                  <a:srgbClr val="e46c0a"/>
                </a:solidFill>
                <a:latin typeface="Monotype Corsiva"/>
              </a:rPr>
              <a:t>Una canción para aprender, entonar,  acompañar el  cierre del evento y tomar fuerzas</a:t>
            </a:r>
            <a:br>
              <a:rPr sz="6000"/>
            </a:br>
            <a:r>
              <a:rPr b="1" lang="es-ES" sz="6000" spc="-1" strike="noStrike">
                <a:solidFill>
                  <a:srgbClr val="e46c0a"/>
                </a:solidFill>
                <a:latin typeface="Monotype Corsiva"/>
              </a:rPr>
              <a:t> para  el reinicio, del ciclo de la gestión integral del PTSAN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Monotype Corsiva"/>
              </a:rPr>
              <a:t>Los hijos del hambre no tienen mañ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5712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Con la mirada perdía en esos ojos de cuencas vacías,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se me notan las costillas, debo vivir el día a día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Monotype Corsiva"/>
              </a:rPr>
              <a:t>Y tú preocupao por cómo adelgazar,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Monotype Corsiva"/>
              </a:rPr>
              <a:t>pensando todo el día en esos kilitos de más.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Monotype Corsiva"/>
              </a:rPr>
              <a:t>Siéntate un ratito y ponte a pensar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Monotype Corsiva"/>
              </a:rPr>
              <a:t>en cómo viven y mueren los demás.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Pa' poder vivir debo arriesgarme a morir,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ya me queda la esperanza de poder salir de aquí.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Navegan mis ilusiones en un frío mar añil,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escapar de la pobreza, ¡Por fin, por fin, por fin!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Y si merece la pena hay cruzar en una patera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que va a naufragar, antes de llegar a Gibraltar. 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Me asusta la pobreza, vete de aquí.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Nos quitas el trabajo y nos traes de fumar,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educamos a tus hijos pa que roben el pan,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el día de mañana nos vas a gobernar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Monotype Corsiva"/>
              </a:rPr>
              <a:t>Y apaga el televisor y todo vuelve a ser real,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Monotype Corsiva"/>
              </a:rPr>
              <a:t>las cosas que has visto se te van a olvidar: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Monotype Corsiva"/>
              </a:rPr>
              <a:t>guerras, hambre y precariedad...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Monotype Corsiva"/>
              </a:rPr>
              <a:t>¡Calla tu conciencia y déjate llevar!... 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Y  e que entonces se apagan, hay  todas las luces del barrio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y  l a gente duerme y no piensa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en los que pierden su vida a diario. 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Con la mirada perdía en esos ojos de cuencas vacías,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se me notan las costillas, ya que debo vivir el día a dí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4 Rectángulo"/>
          <p:cNvSpPr/>
          <p:nvPr/>
        </p:nvSpPr>
        <p:spPr>
          <a:xfrm>
            <a:off x="6658200" y="6611760"/>
            <a:ext cx="27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Monotype Corsiva"/>
              </a:rPr>
              <a:t>Fuente : CanteCa de MaCao. Letra y Mús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7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Monotype Corsiva"/>
              </a:rPr>
              <a:t>Video los hijos del hambre no tienen mañ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4 Rectángulo"/>
          <p:cNvSpPr/>
          <p:nvPr/>
        </p:nvSpPr>
        <p:spPr>
          <a:xfrm>
            <a:off x="2846880" y="6357960"/>
            <a:ext cx="377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Monotype Corsiva"/>
              </a:rPr>
              <a:t>Fuente : CanteCa de MaCao. Letra y Mú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aphicFrame>
        <p:nvGraphicFramePr>
          <p:cNvPr id="369" name="ShockwaveFlash1"/>
          <p:cNvGraphicFramePr/>
          <p:nvPr/>
        </p:nvGraphicFramePr>
        <p:xfrm>
          <a:off x="971640" y="836640"/>
          <a:ext cx="7056360" cy="529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836640"/>
                    <a:ext cx="705636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Taller de Aplicación No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50 CuadroTexto"/>
          <p:cNvSpPr/>
          <p:nvPr/>
        </p:nvSpPr>
        <p:spPr>
          <a:xfrm>
            <a:off x="2071800" y="0"/>
            <a:ext cx="51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Arial"/>
              </a:rPr>
              <a:t>Estructura del taller No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24 Grupo"/>
          <p:cNvGrpSpPr/>
          <p:nvPr/>
        </p:nvGrpSpPr>
        <p:grpSpPr>
          <a:xfrm>
            <a:off x="1785960" y="642960"/>
            <a:ext cx="5789520" cy="6000840"/>
            <a:chOff x="1785960" y="642960"/>
            <a:chExt cx="5789520" cy="6000840"/>
          </a:xfrm>
        </p:grpSpPr>
        <p:grpSp>
          <p:nvGrpSpPr>
            <p:cNvPr id="375" name="23 Grupo"/>
            <p:cNvGrpSpPr/>
            <p:nvPr/>
          </p:nvGrpSpPr>
          <p:grpSpPr>
            <a:xfrm>
              <a:off x="2046600" y="642960"/>
              <a:ext cx="5271840" cy="5166360"/>
              <a:chOff x="2046600" y="642960"/>
              <a:chExt cx="5271840" cy="5166360"/>
            </a:xfrm>
          </p:grpSpPr>
          <p:grpSp>
            <p:nvGrpSpPr>
              <p:cNvPr id="376" name="15 Grupo"/>
              <p:cNvGrpSpPr/>
              <p:nvPr/>
            </p:nvGrpSpPr>
            <p:grpSpPr>
              <a:xfrm>
                <a:off x="2046600" y="642960"/>
                <a:ext cx="5271840" cy="4684320"/>
                <a:chOff x="2046600" y="642960"/>
                <a:chExt cx="5271840" cy="4684320"/>
              </a:xfrm>
            </p:grpSpPr>
            <p:grpSp>
              <p:nvGrpSpPr>
                <p:cNvPr id="377" name="3 Rectángulo"/>
                <p:cNvGrpSpPr/>
                <p:nvPr/>
              </p:nvGrpSpPr>
              <p:grpSpPr>
                <a:xfrm>
                  <a:off x="2233440" y="642960"/>
                  <a:ext cx="4897800" cy="395640"/>
                  <a:chOff x="2233440" y="642960"/>
                  <a:chExt cx="4897800" cy="395640"/>
                </a:xfrm>
              </p:grpSpPr>
              <p:pic>
                <p:nvPicPr>
                  <p:cNvPr id="378" name="3 Rectángulo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2233440" y="642960"/>
                    <a:ext cx="4897800" cy="3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"/>
                  <p:cNvSpPr/>
                  <p:nvPr/>
                </p:nvSpPr>
                <p:spPr>
                  <a:xfrm>
                    <a:off x="2283480" y="677880"/>
                    <a:ext cx="4800600" cy="29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EVALUACIÓN DEL DISEÑO Y FORMULACIÓN DEL PLA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4 Rectángulo"/>
                <p:cNvGrpSpPr/>
                <p:nvPr/>
              </p:nvGrpSpPr>
              <p:grpSpPr>
                <a:xfrm>
                  <a:off x="2233440" y="1212120"/>
                  <a:ext cx="4897800" cy="390240"/>
                  <a:chOff x="2233440" y="1212120"/>
                  <a:chExt cx="4897800" cy="390240"/>
                </a:xfrm>
              </p:grpSpPr>
              <p:pic>
                <p:nvPicPr>
                  <p:cNvPr id="381" name="4 Rectángul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3440" y="1212120"/>
                    <a:ext cx="489780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2" name=""/>
                  <p:cNvSpPr/>
                  <p:nvPr/>
                </p:nvSpPr>
                <p:spPr>
                  <a:xfrm>
                    <a:off x="2283480" y="1243800"/>
                    <a:ext cx="4800600" cy="29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1. CORRESPONDENCIA PROGRAMÁTICA Y DE POLÍTIC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5 Rectángulo"/>
                <p:cNvGrpSpPr/>
                <p:nvPr/>
              </p:nvGrpSpPr>
              <p:grpSpPr>
                <a:xfrm>
                  <a:off x="2233440" y="1607760"/>
                  <a:ext cx="4897800" cy="390240"/>
                  <a:chOff x="2233440" y="1607760"/>
                  <a:chExt cx="4897800" cy="390240"/>
                </a:xfrm>
              </p:grpSpPr>
              <p:pic>
                <p:nvPicPr>
                  <p:cNvPr id="384" name="5 Rectángulo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33440" y="1607760"/>
                    <a:ext cx="489780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5" name=""/>
                  <p:cNvSpPr/>
                  <p:nvPr/>
                </p:nvSpPr>
                <p:spPr>
                  <a:xfrm>
                    <a:off x="2283480" y="1640520"/>
                    <a:ext cx="4800600" cy="29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2. VISIÓN, MISIÓN  Y PRINCIPIO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7 Rectángulo"/>
                <p:cNvGrpSpPr/>
                <p:nvPr/>
              </p:nvGrpSpPr>
              <p:grpSpPr>
                <a:xfrm>
                  <a:off x="2233440" y="1987560"/>
                  <a:ext cx="4897800" cy="390240"/>
                  <a:chOff x="2233440" y="1987560"/>
                  <a:chExt cx="4897800" cy="390240"/>
                </a:xfrm>
              </p:grpSpPr>
              <p:pic>
                <p:nvPicPr>
                  <p:cNvPr id="387" name="7 Rectángul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3440" y="1987560"/>
                    <a:ext cx="489780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8" name=""/>
                  <p:cNvSpPr/>
                  <p:nvPr/>
                </p:nvSpPr>
                <p:spPr>
                  <a:xfrm>
                    <a:off x="2283480" y="2019960"/>
                    <a:ext cx="4800600" cy="29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3. PERTINENCIA, COHERENCIA Y VIABILIDAD TÉCNICO  - LEGA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8 Rectángulo"/>
                <p:cNvGrpSpPr/>
                <p:nvPr/>
              </p:nvGrpSpPr>
              <p:grpSpPr>
                <a:xfrm>
                  <a:off x="2233440" y="2367000"/>
                  <a:ext cx="4897800" cy="390240"/>
                  <a:chOff x="2233440" y="2367000"/>
                  <a:chExt cx="4897800" cy="390240"/>
                </a:xfrm>
              </p:grpSpPr>
              <p:pic>
                <p:nvPicPr>
                  <p:cNvPr id="390" name="8 Rectángulo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33440" y="2367000"/>
                    <a:ext cx="489780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1" name=""/>
                  <p:cNvSpPr/>
                  <p:nvPr/>
                </p:nvSpPr>
                <p:spPr>
                  <a:xfrm>
                    <a:off x="2283480" y="2399400"/>
                    <a:ext cx="4800600" cy="29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4. PARTICIPACIÓN, CONCERTACIÓN Y VIABILIDAD POLÍTICA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10 Rectángulo"/>
                <p:cNvGrpSpPr/>
                <p:nvPr/>
              </p:nvGrpSpPr>
              <p:grpSpPr>
                <a:xfrm>
                  <a:off x="2233440" y="2746440"/>
                  <a:ext cx="4897800" cy="390240"/>
                  <a:chOff x="2233440" y="2746440"/>
                  <a:chExt cx="4897800" cy="390240"/>
                </a:xfrm>
              </p:grpSpPr>
              <p:pic>
                <p:nvPicPr>
                  <p:cNvPr id="393" name="10 Rectángulo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33440" y="2746440"/>
                    <a:ext cx="489780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4" name=""/>
                  <p:cNvSpPr/>
                  <p:nvPr/>
                </p:nvSpPr>
                <p:spPr>
                  <a:xfrm>
                    <a:off x="2283480" y="2778840"/>
                    <a:ext cx="4800600" cy="29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5. ARTICULACIÓN Y ARMONIZACIÓN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12 Rectángulo"/>
                <p:cNvGrpSpPr/>
                <p:nvPr/>
              </p:nvGrpSpPr>
              <p:grpSpPr>
                <a:xfrm>
                  <a:off x="2233440" y="3126240"/>
                  <a:ext cx="4897800" cy="390240"/>
                  <a:chOff x="2233440" y="3126240"/>
                  <a:chExt cx="4897800" cy="390240"/>
                </a:xfrm>
              </p:grpSpPr>
              <p:pic>
                <p:nvPicPr>
                  <p:cNvPr id="396" name="12 Rectángulo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33440" y="3126240"/>
                    <a:ext cx="489780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7" name=""/>
                  <p:cNvSpPr/>
                  <p:nvPr/>
                </p:nvSpPr>
                <p:spPr>
                  <a:xfrm>
                    <a:off x="2283480" y="3158640"/>
                    <a:ext cx="4800600" cy="29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6. EVALUABILIDA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13 Rectángulo"/>
                <p:cNvGrpSpPr/>
                <p:nvPr/>
              </p:nvGrpSpPr>
              <p:grpSpPr>
                <a:xfrm>
                  <a:off x="2233440" y="3505680"/>
                  <a:ext cx="4897800" cy="390240"/>
                  <a:chOff x="2233440" y="3505680"/>
                  <a:chExt cx="4897800" cy="390240"/>
                </a:xfrm>
              </p:grpSpPr>
              <p:pic>
                <p:nvPicPr>
                  <p:cNvPr id="399" name="13 Rectángulo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33440" y="3505680"/>
                    <a:ext cx="489780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0" name=""/>
                  <p:cNvSpPr/>
                  <p:nvPr/>
                </p:nvSpPr>
                <p:spPr>
                  <a:xfrm>
                    <a:off x="2283480" y="3538080"/>
                    <a:ext cx="4800600" cy="29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7. VIABILIDAD ECONÓMICA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14 Rectángulo"/>
                <p:cNvGrpSpPr/>
                <p:nvPr/>
              </p:nvGrpSpPr>
              <p:grpSpPr>
                <a:xfrm>
                  <a:off x="2233440" y="3885120"/>
                  <a:ext cx="4897800" cy="390240"/>
                  <a:chOff x="2233440" y="3885120"/>
                  <a:chExt cx="4897800" cy="390240"/>
                </a:xfrm>
              </p:grpSpPr>
              <p:pic>
                <p:nvPicPr>
                  <p:cNvPr id="402" name="14 Rectángulo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33440" y="3885120"/>
                    <a:ext cx="489780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3" name=""/>
                  <p:cNvSpPr/>
                  <p:nvPr/>
                </p:nvSpPr>
                <p:spPr>
                  <a:xfrm>
                    <a:off x="2283480" y="3917520"/>
                    <a:ext cx="4800600" cy="29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8. INTEGRACIONES Y ALIANZA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4" name="16 Rectángulo"/>
                <p:cNvSpPr/>
                <p:nvPr/>
              </p:nvSpPr>
              <p:spPr>
                <a:xfrm>
                  <a:off x="2283840" y="4296960"/>
                  <a:ext cx="4800600" cy="2934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Calibri"/>
                    </a:rPr>
                    <a:t>9. ASISTENCIA TÉCN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5" name="17 Rectángulo"/>
                <p:cNvGrpSpPr/>
                <p:nvPr/>
              </p:nvGrpSpPr>
              <p:grpSpPr>
                <a:xfrm>
                  <a:off x="2046600" y="4443840"/>
                  <a:ext cx="5271840" cy="883440"/>
                  <a:chOff x="2046600" y="4443840"/>
                  <a:chExt cx="5271840" cy="883440"/>
                </a:xfrm>
              </p:grpSpPr>
              <p:pic>
                <p:nvPicPr>
                  <p:cNvPr id="406" name="17 Rectángulo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46600" y="4443840"/>
                    <a:ext cx="5271840" cy="8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7" name=""/>
                  <p:cNvSpPr/>
                  <p:nvPr/>
                </p:nvSpPr>
                <p:spPr>
                  <a:xfrm>
                    <a:off x="2283840" y="4676760"/>
                    <a:ext cx="4800600" cy="379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10. MATRIZ GENERAL DE CONSOLIDACIÓN DE EVALUACIÓN DE ESTÁNDARES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408" name="36 Conector recto de flecha"/>
                <p:cNvCxnSpPr/>
                <p:nvPr/>
              </p:nvCxnSpPr>
              <p:spPr>
                <a:xfrm flipH="1">
                  <a:off x="4682880" y="960120"/>
                  <a:ext cx="3240" cy="284400"/>
                </a:xfrm>
                <a:prstGeom prst="straightConnector1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409" name="18 Rectángulo"/>
              <p:cNvSpPr/>
              <p:nvPr/>
            </p:nvSpPr>
            <p:spPr>
              <a:xfrm>
                <a:off x="2049480" y="5457600"/>
                <a:ext cx="5268960" cy="351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Calibri"/>
                  </a:rPr>
                  <a:t>11.  ENVÍO DE TODOS LOS PRODUCTOS DEL TALLER AL CORREO: stgiptsan@yahoo.com.co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19 Rectángulo"/>
            <p:cNvGrpSpPr/>
            <p:nvPr/>
          </p:nvGrpSpPr>
          <p:grpSpPr>
            <a:xfrm>
              <a:off x="1785960" y="5698440"/>
              <a:ext cx="5789520" cy="945360"/>
              <a:chOff x="1785960" y="5698440"/>
              <a:chExt cx="5789520" cy="945360"/>
            </a:xfrm>
          </p:grpSpPr>
          <p:pic>
            <p:nvPicPr>
              <p:cNvPr id="411" name="19 Rectángulo" descr=""/>
              <p:cNvPicPr/>
              <p:nvPr/>
            </p:nvPicPr>
            <p:blipFill>
              <a:blip r:embed="rId11"/>
              <a:stretch/>
            </p:blipFill>
            <p:spPr>
              <a:xfrm>
                <a:off x="1785960" y="5698440"/>
                <a:ext cx="5789520" cy="94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2048760" y="5945040"/>
                <a:ext cx="526968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Calibri"/>
                  </a:rPr>
                  <a:t>12. SOCIALIZACIÓN DE PRODUCT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3" name="Picture 2" descr=""/>
          <p:cNvPicPr/>
          <p:nvPr/>
        </p:nvPicPr>
        <p:blipFill>
          <a:blip r:embed="rId12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7120" y="2143080"/>
            <a:ext cx="82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6" name="6 Rectángulo" descr=""/>
          <p:cNvPicPr/>
          <p:nvPr/>
        </p:nvPicPr>
        <p:blipFill>
          <a:blip r:embed="rId2"/>
          <a:stretch/>
        </p:blipFill>
        <p:spPr>
          <a:xfrm>
            <a:off x="2712960" y="2225520"/>
            <a:ext cx="3969000" cy="1187640"/>
          </a:xfrm>
          <a:prstGeom prst="rect">
            <a:avLst/>
          </a:prstGeom>
          <a:ln w="0">
            <a:noFill/>
          </a:ln>
        </p:spPr>
      </p:pic>
      <p:pic>
        <p:nvPicPr>
          <p:cNvPr id="417" name="7 Rectángulo" descr=""/>
          <p:cNvPicPr/>
          <p:nvPr/>
        </p:nvPicPr>
        <p:blipFill>
          <a:blip r:embed="rId3"/>
          <a:stretch/>
        </p:blipFill>
        <p:spPr>
          <a:xfrm>
            <a:off x="1189080" y="3608280"/>
            <a:ext cx="710712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Objetivos específico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ocer y usar un instrumento para el seguimiento y evaluación del diseño y formulación del plan territorial de seguridad alimentaria y nutrici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r un plan de mejora al diseño y formulación del plan a partir de su seguimiento y evaluación.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eñar una matriz de seguimiento y evaluación del plan territorial de seguridad alimentaria y nutrici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6000" cy="81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6:40:43Z</dcterms:created>
  <dc:creator>VICTOR HUGO CESPEDES GOMEZ</dc:creator>
  <dc:description/>
  <dc:language>en-US</dc:language>
  <cp:lastModifiedBy>USUARIO</cp:lastModifiedBy>
  <dcterms:modified xsi:type="dcterms:W3CDTF">2010-03-15T16:09:10Z</dcterms:modified>
  <cp:revision>2535</cp:revision>
  <dc:subject/>
  <dc:title>GUIA GIPTSAN V 1.0</dc:title>
</cp:coreProperties>
</file>